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9"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1"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2"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3"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4"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104840" y="696960"/>
            <a:ext cx="4648320" cy="3486240"/>
          </a:xfrm>
          <a:prstGeom prst="rect">
            <a:avLst/>
          </a:prstGeom>
          <a:ln w="0">
            <a:noFill/>
          </a:ln>
        </p:spPr>
      </p:sp>
      <p:sp>
        <p:nvSpPr>
          <p:cNvPr id="118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6"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04840" y="696960"/>
            <a:ext cx="4648320" cy="3486240"/>
          </a:xfrm>
          <a:prstGeom prst="rect">
            <a:avLst/>
          </a:prstGeom>
          <a:ln w="0">
            <a:noFill/>
          </a:ln>
        </p:spPr>
      </p:sp>
      <p:sp>
        <p:nvSpPr>
          <p:cNvPr id="1212"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1104840" y="696960"/>
            <a:ext cx="4648320" cy="3486240"/>
          </a:xfrm>
          <a:prstGeom prst="rect">
            <a:avLst/>
          </a:prstGeom>
          <a:ln w="0">
            <a:noFill/>
          </a:ln>
        </p:spPr>
      </p:sp>
      <p:sp>
        <p:nvSpPr>
          <p:cNvPr id="1215"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104840" y="696960"/>
            <a:ext cx="4648320" cy="3486240"/>
          </a:xfrm>
          <a:prstGeom prst="rect">
            <a:avLst/>
          </a:prstGeom>
          <a:ln w="0">
            <a:noFill/>
          </a:ln>
        </p:spPr>
      </p:sp>
      <p:sp>
        <p:nvSpPr>
          <p:cNvPr id="12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1104840" y="696960"/>
            <a:ext cx="4648320" cy="3486240"/>
          </a:xfrm>
          <a:prstGeom prst="rect">
            <a:avLst/>
          </a:prstGeom>
          <a:ln w="0">
            <a:noFill/>
          </a:ln>
        </p:spPr>
      </p:sp>
      <p:sp>
        <p:nvSpPr>
          <p:cNvPr id="1221"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104840" y="696960"/>
            <a:ext cx="4648320" cy="3486240"/>
          </a:xfrm>
          <a:prstGeom prst="rect">
            <a:avLst/>
          </a:prstGeom>
          <a:ln w="0">
            <a:noFill/>
          </a:ln>
        </p:spPr>
      </p:sp>
      <p:sp>
        <p:nvSpPr>
          <p:cNvPr id="1224" name="PlaceHolder 2"/>
          <p:cNvSpPr>
            <a:spLocks noGrp="1"/>
          </p:cNvSpPr>
          <p:nvPr>
            <p:ph type="body"/>
          </p:nvPr>
        </p:nvSpPr>
        <p:spPr>
          <a:xfrm>
            <a:off x="685800" y="4416480"/>
            <a:ext cx="5486400" cy="3416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104840" y="696960"/>
            <a:ext cx="4648320" cy="3486240"/>
          </a:xfrm>
          <a:prstGeom prst="rect">
            <a:avLst/>
          </a:prstGeom>
          <a:ln w="0">
            <a:noFill/>
          </a:ln>
        </p:spPr>
      </p:sp>
      <p:sp>
        <p:nvSpPr>
          <p:cNvPr id="1227" name="PlaceHolder 2"/>
          <p:cNvSpPr>
            <a:spLocks noGrp="1"/>
          </p:cNvSpPr>
          <p:nvPr>
            <p:ph type="body"/>
          </p:nvPr>
        </p:nvSpPr>
        <p:spPr>
          <a:xfrm>
            <a:off x="685800" y="4416120"/>
            <a:ext cx="5486400" cy="50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28"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04840" y="696960"/>
            <a:ext cx="4648320" cy="3486240"/>
          </a:xfrm>
          <a:prstGeom prst="rect">
            <a:avLst/>
          </a:prstGeom>
          <a:ln w="0">
            <a:noFill/>
          </a:ln>
        </p:spPr>
      </p:sp>
      <p:sp>
        <p:nvSpPr>
          <p:cNvPr id="1230" name="PlaceHolder 2"/>
          <p:cNvSpPr>
            <a:spLocks noGrp="1"/>
          </p:cNvSpPr>
          <p:nvPr>
            <p:ph type="body"/>
          </p:nvPr>
        </p:nvSpPr>
        <p:spPr>
          <a:xfrm>
            <a:off x="685800" y="4416120"/>
            <a:ext cx="5486400" cy="4800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04840" y="696960"/>
            <a:ext cx="4648320" cy="3486240"/>
          </a:xfrm>
          <a:prstGeom prst="rect">
            <a:avLst/>
          </a:prstGeom>
          <a:ln w="0">
            <a:noFill/>
          </a:ln>
        </p:spPr>
      </p:sp>
      <p:sp>
        <p:nvSpPr>
          <p:cNvPr id="1233"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104840" y="696960"/>
            <a:ext cx="4648320" cy="3486240"/>
          </a:xfrm>
          <a:prstGeom prst="rect">
            <a:avLst/>
          </a:prstGeom>
          <a:ln w="0">
            <a:noFill/>
          </a:ln>
        </p:spPr>
      </p:sp>
      <p:sp>
        <p:nvSpPr>
          <p:cNvPr id="1236" name="PlaceHolder 2"/>
          <p:cNvSpPr>
            <a:spLocks noGrp="1"/>
          </p:cNvSpPr>
          <p:nvPr>
            <p:ph type="body"/>
          </p:nvPr>
        </p:nvSpPr>
        <p:spPr>
          <a:xfrm>
            <a:off x="685800" y="4416120"/>
            <a:ext cx="5486400" cy="673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04840" y="696960"/>
            <a:ext cx="4648320" cy="3486240"/>
          </a:xfrm>
          <a:prstGeom prst="rect">
            <a:avLst/>
          </a:prstGeom>
          <a:ln w="0">
            <a:noFill/>
          </a:ln>
        </p:spPr>
      </p:sp>
      <p:sp>
        <p:nvSpPr>
          <p:cNvPr id="1239" name="PlaceHolder 2"/>
          <p:cNvSpPr>
            <a:spLocks noGrp="1"/>
          </p:cNvSpPr>
          <p:nvPr>
            <p:ph type="body"/>
          </p:nvPr>
        </p:nvSpPr>
        <p:spPr>
          <a:xfrm>
            <a:off x="685800" y="4416120"/>
            <a:ext cx="5486400" cy="590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04840" y="696960"/>
            <a:ext cx="4648320" cy="3486240"/>
          </a:xfrm>
          <a:prstGeom prst="rect">
            <a:avLst/>
          </a:prstGeom>
          <a:ln w="0">
            <a:noFill/>
          </a:ln>
        </p:spPr>
      </p:sp>
      <p:sp>
        <p:nvSpPr>
          <p:cNvPr id="1188"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9"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04840" y="696960"/>
            <a:ext cx="4648320" cy="3486240"/>
          </a:xfrm>
          <a:prstGeom prst="rect">
            <a:avLst/>
          </a:prstGeom>
          <a:ln w="0">
            <a:noFill/>
          </a:ln>
        </p:spPr>
      </p:sp>
      <p:sp>
        <p:nvSpPr>
          <p:cNvPr id="1242" name="PlaceHolder 2"/>
          <p:cNvSpPr>
            <a:spLocks noGrp="1"/>
          </p:cNvSpPr>
          <p:nvPr>
            <p:ph type="body"/>
          </p:nvPr>
        </p:nvSpPr>
        <p:spPr>
          <a:xfrm>
            <a:off x="685800" y="4416480"/>
            <a:ext cx="5486400" cy="3138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04840" y="696960"/>
            <a:ext cx="4648320" cy="3486240"/>
          </a:xfrm>
          <a:prstGeom prst="rect">
            <a:avLst/>
          </a:prstGeom>
          <a:ln w="0">
            <a:noFill/>
          </a:ln>
        </p:spPr>
      </p:sp>
      <p:sp>
        <p:nvSpPr>
          <p:cNvPr id="1245" name="PlaceHolder 2"/>
          <p:cNvSpPr>
            <a:spLocks noGrp="1"/>
          </p:cNvSpPr>
          <p:nvPr>
            <p:ph type="body"/>
          </p:nvPr>
        </p:nvSpPr>
        <p:spPr>
          <a:xfrm>
            <a:off x="685800" y="4416480"/>
            <a:ext cx="5486400" cy="535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04840" y="696960"/>
            <a:ext cx="4648320" cy="3486240"/>
          </a:xfrm>
          <a:prstGeom prst="rect">
            <a:avLst/>
          </a:prstGeom>
          <a:ln w="0">
            <a:noFill/>
          </a:ln>
        </p:spPr>
      </p:sp>
      <p:sp>
        <p:nvSpPr>
          <p:cNvPr id="1248" name="PlaceHolder 2"/>
          <p:cNvSpPr>
            <a:spLocks noGrp="1"/>
          </p:cNvSpPr>
          <p:nvPr>
            <p:ph type="body"/>
          </p:nvPr>
        </p:nvSpPr>
        <p:spPr>
          <a:xfrm>
            <a:off x="685800" y="4416120"/>
            <a:ext cx="5486400" cy="147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104840" y="696960"/>
            <a:ext cx="4648320" cy="3486240"/>
          </a:xfrm>
          <a:prstGeom prst="rect">
            <a:avLst/>
          </a:prstGeom>
          <a:ln w="0">
            <a:noFill/>
          </a:ln>
        </p:spPr>
      </p:sp>
      <p:sp>
        <p:nvSpPr>
          <p:cNvPr id="1251" name="PlaceHolder 2"/>
          <p:cNvSpPr>
            <a:spLocks noGrp="1"/>
          </p:cNvSpPr>
          <p:nvPr>
            <p:ph type="body"/>
          </p:nvPr>
        </p:nvSpPr>
        <p:spPr>
          <a:xfrm>
            <a:off x="685800" y="4416480"/>
            <a:ext cx="5486400" cy="230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2"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1104840" y="696960"/>
            <a:ext cx="4648320" cy="3486240"/>
          </a:xfrm>
          <a:prstGeom prst="rect">
            <a:avLst/>
          </a:prstGeom>
          <a:ln w="0">
            <a:noFill/>
          </a:ln>
        </p:spPr>
      </p:sp>
      <p:sp>
        <p:nvSpPr>
          <p:cNvPr id="11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92"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04840" y="696960"/>
            <a:ext cx="4648320" cy="3486240"/>
          </a:xfrm>
          <a:prstGeom prst="rect">
            <a:avLst/>
          </a:prstGeom>
          <a:ln w="0">
            <a:noFill/>
          </a:ln>
        </p:spPr>
      </p:sp>
      <p:sp>
        <p:nvSpPr>
          <p:cNvPr id="1194" name="PlaceHolder 2"/>
          <p:cNvSpPr>
            <a:spLocks noGrp="1"/>
          </p:cNvSpPr>
          <p:nvPr>
            <p:ph type="body"/>
          </p:nvPr>
        </p:nvSpPr>
        <p:spPr>
          <a:xfrm>
            <a:off x="685800" y="4416480"/>
            <a:ext cx="5486400" cy="203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04840" y="696960"/>
            <a:ext cx="4648320" cy="3486240"/>
          </a:xfrm>
          <a:prstGeom prst="rect">
            <a:avLst/>
          </a:prstGeom>
          <a:ln w="0">
            <a:noFill/>
          </a:ln>
        </p:spPr>
      </p:sp>
      <p:sp>
        <p:nvSpPr>
          <p:cNvPr id="1197" name="PlaceHolder 2"/>
          <p:cNvSpPr>
            <a:spLocks noGrp="1"/>
          </p:cNvSpPr>
          <p:nvPr>
            <p:ph type="body"/>
          </p:nvPr>
        </p:nvSpPr>
        <p:spPr>
          <a:xfrm>
            <a:off x="685800" y="4416120"/>
            <a:ext cx="5486400" cy="1144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04840" y="696960"/>
            <a:ext cx="4648320" cy="3486240"/>
          </a:xfrm>
          <a:prstGeom prst="rect">
            <a:avLst/>
          </a:prstGeom>
          <a:ln w="0">
            <a:noFill/>
          </a:ln>
        </p:spPr>
      </p:sp>
      <p:sp>
        <p:nvSpPr>
          <p:cNvPr id="1200" name="PlaceHolder 2"/>
          <p:cNvSpPr>
            <a:spLocks noGrp="1"/>
          </p:cNvSpPr>
          <p:nvPr>
            <p:ph type="body"/>
          </p:nvPr>
        </p:nvSpPr>
        <p:spPr>
          <a:xfrm>
            <a:off x="685800" y="4416120"/>
            <a:ext cx="5486400" cy="1050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1"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104840" y="696960"/>
            <a:ext cx="4648320" cy="3486240"/>
          </a:xfrm>
          <a:prstGeom prst="rect">
            <a:avLst/>
          </a:prstGeom>
          <a:ln w="0">
            <a:noFill/>
          </a:ln>
        </p:spPr>
      </p:sp>
      <p:sp>
        <p:nvSpPr>
          <p:cNvPr id="1203" name="PlaceHolder 2"/>
          <p:cNvSpPr>
            <a:spLocks noGrp="1"/>
          </p:cNvSpPr>
          <p:nvPr>
            <p:ph type="body"/>
          </p:nvPr>
        </p:nvSpPr>
        <p:spPr>
          <a:xfrm>
            <a:off x="685800" y="4416480"/>
            <a:ext cx="5486400" cy="15079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4"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04840" y="696960"/>
            <a:ext cx="4648320" cy="3486240"/>
          </a:xfrm>
          <a:prstGeom prst="rect">
            <a:avLst/>
          </a:prstGeom>
          <a:ln w="0">
            <a:noFill/>
          </a:ln>
        </p:spPr>
      </p:sp>
      <p:sp>
        <p:nvSpPr>
          <p:cNvPr id="1206" name="PlaceHolder 2"/>
          <p:cNvSpPr>
            <a:spLocks noGrp="1"/>
          </p:cNvSpPr>
          <p:nvPr>
            <p:ph type="body"/>
          </p:nvPr>
        </p:nvSpPr>
        <p:spPr>
          <a:xfrm>
            <a:off x="685800" y="4416120"/>
            <a:ext cx="5486400" cy="41828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0C7A3-0734-4366-A6B3-A46AC99E6A3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104840" y="696960"/>
            <a:ext cx="4648320" cy="3486240"/>
          </a:xfrm>
          <a:prstGeom prst="rect">
            <a:avLst/>
          </a:prstGeom>
          <a:ln w="0">
            <a:noFill/>
          </a:ln>
        </p:spPr>
      </p:sp>
      <p:sp>
        <p:nvSpPr>
          <p:cNvPr id="1209" name="PlaceHolder 2"/>
          <p:cNvSpPr>
            <a:spLocks noGrp="1"/>
          </p:cNvSpPr>
          <p:nvPr>
            <p:ph type="body"/>
          </p:nvPr>
        </p:nvSpPr>
        <p:spPr>
          <a:xfrm>
            <a:off x="685800" y="4416120"/>
            <a:ext cx="5486400" cy="397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3E726C-B118-4745-A05B-985ED4BFF3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65E66337-ED1B-44B2-ACC3-CB348289D78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7761E7E1-77F4-4E7E-A934-E3F4D8349F5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76060732-7195-4008-AE30-93AB80431A2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EE18557E-7D96-4FA9-9815-E9659121F53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24AAE5CC-0D65-4DB3-8816-34BB2622676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7CDBECEF-83A0-481A-8DB2-509CC8E0132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AC5F3B50-F806-46E5-8058-1442C1B3C79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9BAB5826-3E18-405F-A9C7-86975C988C1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2CE274DD-0E99-41CF-B395-C96D39A31B5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2E870C3F-4313-49A0-93E9-06387FAD906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01079AE-0CA9-4864-9D3E-2E081B4A68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9C12EC29-3BB6-4D92-A2A0-502EA481479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036FD5F5-3E77-4090-9482-D0AD8179CF0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74F2CCEB-A856-4D62-B243-68500DD99EF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5B8AEE79-AE1A-4387-A7CD-71C4E3CA3E6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0E798B0A-1AE1-49BE-9FD4-DD1B867EDE5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D361303F-9891-4F62-8AD3-19D4223566A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9F4A0523-B6D0-433D-B8CA-7F2983946CE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73538531-02CA-44C9-A3A1-5709CCEE6AB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BF9F29D9-FB71-48F3-9C37-1E895503D9B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87F31F98-FD7C-49F8-81D8-3071D0B8AE6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5A742071-3DEE-4634-8380-377EFE9460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278D8E00-288B-4B18-A402-72BC381B852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7414138E-F198-4B8A-B650-806663C24DF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F8C047C-04D0-4B1D-AB33-03A312CF05A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89AA41B8-67B4-4062-B41F-7A483F0C4CC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FF162B67-0A9B-4A5C-86F0-8D0027DCC31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404DA4C1-2144-4603-9B87-85EAA3A8EB8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C70ABDC2-A74B-48D3-9B30-C5BD2BEA31B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59A99147-9047-49DF-A8D1-ED6705423B6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BF9759E1-E8A1-46A7-9434-878A459F901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CC5ECC97-EE0F-4C79-97BF-69A1230732B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7F9329FE-16E7-4EE0-811E-E954B83CB7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3717B674-644F-45A5-9486-61FDF6F15EA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28AA54F9-A9D0-48F3-A683-5584E6C0473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B176A920-92EA-45AE-8D9D-7E9CE918F86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4A5B572-B39C-4EDC-9CB7-D83C9231C59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6774D21E-FFB4-4971-BB81-D1737538309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22B574E3-EF08-46E7-A06D-8EC52DA2089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A926A561-91D8-4871-B646-8D7CE6B80802}"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BC5C46A0-DD55-44F5-AE82-E2B087FDBE0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1FC44B2C-0802-4AB9-89B1-8E45ED024E6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8B3DB255-4087-4020-90DA-0BA854B22E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D90978A5-C81A-4AE3-8FEA-1D9AA3A78BD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2B325FA6-BF23-4150-9E50-046699903E3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44CF421B-AE9E-4F81-B9F5-F5EE2780D42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B4476292-9E75-4916-8B96-1912630A677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16DB854D-88FA-4354-B429-BED43521CAE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0F45C52-966F-40A1-9C13-BDDA418012E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FF6A8029-B60D-4EBA-A1F9-D650B877F9A0}"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BA2FE189-3DFB-4220-B849-3D0AA5614E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2B52EC42-380E-47CC-BFD4-439A1DBED516}"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AA43ED55-7A30-493C-A9A7-994D9BEBFCF3}"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39BB2FF9-C64B-4594-A6AE-FAF57856A5AE}"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A4B1505C-DC95-4BA2-B250-00C50EAF0C7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D2888D51-86E7-4F1F-8C03-289D722912EE}"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0CE996F8-D65F-49C7-B06A-9B6A44C0A6D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9D6D602B-982F-41BA-ACF8-3BBCE96A5D0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3CF0E5C3-EE2F-4CB8-9BDD-A4994FC5BF6A}"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D065760B-C2E5-43BF-9476-2C8EB223490E}"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90CA5B46-941E-4DE5-AACF-D9A7B95B339D}"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868A6B9C-7066-430C-8D9B-E59E325260A1}"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D25AD0E3-65EB-40D5-8428-5AD05109DC63}"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D8837A59-BF4A-4FEC-B22D-2F77121BEAAB}"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FC1DEB9A-8F3D-43E8-8736-7DAC030900C8}"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4B951AD2-B13B-4C59-AD72-9D4683D1BA5D}"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5C105CF0-DBD5-4735-A65C-352C0F9B85CE}"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420A9C92-345E-4DAF-9705-0AA65675B5C3}"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3701FD16-2F72-4BB5-828E-0FBB148AE8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C2507F7B-B38F-4009-8CC0-18D70A31856E}"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3AEEF923-3D87-4A2A-A383-B0C5684BE243}"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6E7688BD-6769-4E28-A289-8FF5ED10C5F4}"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ADDD4A75-0A3D-40B6-B4DF-2FE93CA80A32}"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BE6D3AA3-0130-4A3A-A0D8-7237017FBC75}"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7F151055-66AB-49B1-8997-CEE1492547B9}"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42506E92-CCFC-47C5-9493-C22E9C4167F4}"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71B8AB45-0AFC-463E-A684-39C876E4BDFA}"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5B6927BC-E102-42D9-AF48-836F792BDB0C}"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CCA4BCF1-2C32-450A-AE2B-2A797BFFC2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21C5C9D4-ACBE-4E11-96F8-E4E8D43D25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A1995028-91B1-4A4C-8B5A-CE78BD751D8C}"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4015469E-2A36-4BB8-BA80-23B854D80A2D}"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98BC9FB7-173B-4574-BFC9-821BA1F27B95}"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7D2601F6-DEFB-424F-8BB5-CE207053CC5E}"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1FB378C6-D55C-4ECE-AF52-230BC7F14356}"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93FF3714-ADDF-46F2-B3F7-2F735987B514}"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54892468-3C6F-4704-870D-418649A0F23D}"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52C2C55C-FC15-4D83-8D8D-0244B3041613}"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87E9F1AE-B74E-49E4-8BE8-268F22FCDF47}"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40B69893-1E02-41E6-8E56-F55BE187E6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4E9B4AB6-A13E-412E-9BAD-E99DDF2B8714}"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474CD55D-4662-4049-A17A-ED6785C7918D}"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071C3E12-B560-486D-9FE6-8BA835B2FA8C}"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15D3F6DE-2601-4D24-84A6-19C21270B1C0}"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D2DBA505-7C75-4569-B55B-B148E3C147D0}"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88169A1D-1472-410E-AC97-B02DEEB102FB}"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68CBFC43-ABDB-4333-BAB2-855F067C8C3C}"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1BA59041-7318-4013-AF25-982A998A32D8}"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D4B673B1-BE53-493F-A50B-897A39065873}"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D27E2F80-6F69-42E8-8378-E91D8FC681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3559CE5A-379C-4E63-AB50-7B5B59D4D663}"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A5D93746-F121-41C3-94B9-A2877991E377}"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4D68C680-E3DA-441A-BADB-6E62FBE87F63}"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7EDBA8E6-37CD-422D-9DFE-F3E52C42346E}"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4BA5F0A9-939F-46EE-AF3B-926CA86552A4}"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4A4F0E82-F2C2-430D-A2D1-0B9E84892C4F}"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480585AF-7629-49F3-8E64-F4BCA66ED264}"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CE547D94-55E8-453F-A1D4-191940787E1F}"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C827644B-C12C-45FC-8782-459FFEF943BF}"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CE312859-FBE0-4212-B251-3007447318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AFEFBE43-B949-4053-A994-0E8F35A4DC24}"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A4C86383-BA47-473A-8456-025937C29FEC}"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915A1628-F74E-49AA-A817-937790B0EBD5}"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9CD6776E-523F-4983-9BBD-B8C9A7E0B41F}"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EF265A56-F5A4-450C-BD70-482B7C974382}"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D2E00E92-C487-4C31-A6ED-0EB834056CB5}"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47EF2635-2B5D-4B7A-B78F-C75DA6072B43}"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043F3AFE-6874-4923-82A9-966AB21CC6B9}"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9F042467-3E12-4CA0-89A5-670AE2B641CB}"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A347AEBA-7BD9-4F06-B425-970834E1D1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4D29783F-42E9-4623-B1F8-572A71B2D551}"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372602F4-9B77-4C66-B0FA-763F0BD95A23}"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5C65CFDC-0096-4889-BF11-9BB60AE7F6DF}"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058545A6-27FE-4BE3-AEF4-F0A7A9FF34B4}"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0EEB0BD6-110E-4F69-BD1A-6AD0095DB3D4}"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8E3ACCF0-6185-45CD-BC57-AC1B4100866E}"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12BC7200-776A-489C-9A55-FBDF1277D15C}"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FA5D2351-15BF-4D05-B945-B18FAA8A8BDC}"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A00238D7-26C7-4C7E-A71D-273C58317AB4}"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ABD34DBF-D362-4CFB-8A40-3F27991D2E1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D5E3A5-B118-4748-8241-C97F468266C4}"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D8002C51-1B99-48F9-9179-C3CAE270B751}"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BABDADE1-5EDA-49B8-B2D3-46068DB47198}"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759C1DC6-C906-49A3-9249-7B93B406AECE}"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5E502250-F1D5-4C24-82A2-83E8681B8E20}"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2B77B0D5-14D7-4C5C-978C-53F93840D145}"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F6D2A89C-8F66-4F80-90FF-CDE59AC1D2C2}"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450C306C-677A-4DB0-AA06-C6ACAF69FF1F}"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E334893B-51E7-4E97-AAC0-4349B06B8C19}"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52269785-2342-4BAB-B12C-7DF87D1EF124}"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2CE8EA31-7135-4189-94A2-63CA40F482D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6C78858E-3A30-42A2-A37D-3A199E1A286F}"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16A9B349-5FE3-48EE-9CA0-F904C86CB500}"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10F3AE9F-3ECA-4B18-A1A1-10F497243C2F}"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458B72BB-CE71-499D-9EDA-FCBE0C84C2D4}"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97DAA133-3EF4-40E6-8B04-D58E948B9DFE}"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2DD4F1E2-92D7-44EF-918D-54B27AC0428E}"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AAAC2D02-059F-4254-A7A8-5DC22118814A}"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B1978721-8584-4CA3-9684-444101F3CB64}"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40A00B49-60B3-4ADF-A1FA-4C53624444D5}"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9533FD41-66FA-4E67-90FE-7EA105DBD239}"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32EA4D86-43E9-4602-A001-D3EDBA440DD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5C5BF523-7F25-4714-9EEC-E99FDA614B2A}"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E4885937-3EC3-41AA-9628-231EA7F756CD}"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12446EE6-1EF8-4875-BBE9-9719B3F73017}"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644762F6-8CBC-49A0-86E9-7B3FFF07F20F}"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B06E92FD-F297-4EDF-BA1D-07DA451E4202}"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3D6C778B-7A09-4753-98A1-7FBB40F8F9D0}"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51FB21C1-470B-4182-B7F4-D14511838B2E}"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A15FAEF2-540A-4B9F-8005-CC1A0F1A5840}"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CBA7A3F2-F114-48B7-8673-F87B6BA06AB0}"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1840403-65FF-41FA-8519-43FCA9483EB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39B9541-85FC-4C83-8185-38B3DAC02CE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33CC5600-268B-4925-8A5B-F1FA85CFFAFC}"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C3C81E4-6704-4FAE-90CF-7E807399CD4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9A4DDB7-4DE9-48BE-B407-B31997DD509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CF971C3-6C5E-42F7-BCDE-1856446B379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52A86DA-0CDA-4D37-B2A5-6F49E42D4A5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037181F-9D0D-47ED-A283-C47452FD619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BEA9EDD-B8FC-4B59-90E9-78C6BD8C619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F47F6EB-0A0C-4EC0-BEF5-BDDA7ED1A10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74BBE0C7-F1B5-400C-A69D-0B039EB6A1B7}"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A3FF17A1-5109-4DF2-93ED-AC8F1FC3549C}"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6A27A8F6-E8EA-40A9-909A-38D596A7D690}"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309A5566-3894-4A0C-BDE5-38DFDB507FF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0FDBAF6C-E5AE-453B-BD37-D9C018371AD2}"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551C5CE4-3125-4E8D-8DC9-DE505426C76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ADE82793-EC7C-4033-A519-39F925B51C0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F8A16D60-4D3C-463D-B131-A2E879FC6C3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4D39D047-73EE-4714-8CD1-6F108CE9DBF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714357B1-C04F-4BF3-A281-E70C8E28379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E83E6042-B355-44D3-A515-2557F9B35FA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70852D26-56D2-42D3-89DD-01C698FA0C5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1DF47AC-FFA3-4D2F-9E89-F261036E68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C8876393-BC6B-4F70-B1A3-CF1182A8636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55F29A9E-1A6B-4F8B-B493-E1692D5D95A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9EECF158-92E1-4CE5-B7A4-068F21BFE8F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66023CAA-0B7C-4F34-ADC2-0C9AA0C1ADA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E6570A15-7BEC-47FB-9830-711FDC5AC67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4D3C3370-9015-4DC5-AFEB-11143CFF483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213C7AB8-6EA0-424F-A4D5-8F062CDBA87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3D5CE9E2-D93B-4FC5-9387-4A0A529508F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0E402FA1-6C87-4D4B-BC78-951FEBB2889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C50A41C0-9998-4C7D-B004-0D966D600C1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6724D950-7F1E-4A29-AC0A-B92CFD0B49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6A245DB0-D3F1-436E-BA5C-554892A23AC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E0EED4CF-8F25-41D2-A0F1-0CDF5E73CA8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848641-A991-46AD-81BF-917F3FA2A3B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217E98C2-E1B3-49EE-BACB-C7A55487779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AEEB48E6-DA08-405A-BABF-B52E52BD9CA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2CF0AF87-819E-4BAF-8851-E00AAC19261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F5D44EC7-7591-4EE3-A14C-4CF6CD29202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387B7F86-A12A-4640-9097-2B081E63942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4079A744-10FB-480E-9C81-A0653BA442C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0C9ED951-4F29-4D31-81B0-FE29F16EE14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12A1E164-77E8-4C4C-A1C4-9A03E20E46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BFE00FEA-C062-4333-8001-10997B41ED3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38B8714D-F55C-4973-9B29-26FE92DC3A75}"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947163FC-28FF-4899-B324-EDB34C1614B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3CD26189-6422-4ABA-B6D8-32CE0A27C89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F29CD66-6689-41FF-8B46-66E363DA5B2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1B8695E2-EBAD-4989-94FB-0DB2B6D5EFA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EB63E18D-C1D4-43A8-AD01-65C9DB7F852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1B3A45F5-580D-45DA-8B1E-94430126D33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7217726B-9718-4F4B-8592-88E4FFC0188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2B77960B-C3DB-4F34-A9A9-B9BFFD458DA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8D28347B-C0DF-4034-AB72-45E649CDFE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951102BE-D894-4F9A-8D22-6F846D0CD82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92C341A0-33AE-469E-B6CD-43B5805F744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043EF1AF-AD91-42FC-93F5-F73D4FC5B47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A8C26D20-F571-476C-BDF6-AE1D11C48C0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7483B704-4794-4010-95D2-A2F7829A158B}"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98A7788A-5317-4C49-871D-060ABCBDAB1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56DEEFB-6EB1-4DB2-811D-EEBB8E4FFE2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E9265AC2-5586-422C-8695-00AFBAA05C9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7FDBF9AD-66A6-4972-BAF5-3F65F2469E9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7CA36493-1B05-4143-8327-633A6861DEE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8ACE40DA-7789-4413-83B5-CC2885A06E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B44188A8-83B1-43EC-B86C-8197EF90A48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ED07B98E-5540-4B21-8520-8A23967A041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A506770F-0D8D-4F2A-A4AF-D6D175C26C8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E6369177-319C-4DFD-84AB-46AB5CA4C99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EC83F44B-6719-4431-910E-44ED62F4814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C5E4BAEE-B1F7-4CE1-AE03-65DA4A38E27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335AB012-C619-4DD6-B15E-2E202E9EDFA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800B3D2B-EBCC-4269-9BBA-BA5FA5296CC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BE2DEBF-2279-4C22-A79F-10086B971F1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1368DD79-CF2E-4133-9F83-F2FD6058EF6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A27534EB-154E-4D9F-8C21-3104FD1796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10C6D-ECE8-40D7-AE85-DEFFBBBAD1F4}"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289EB-019C-45A3-9945-70305E4C002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3986C-8229-47D8-B1D7-3E5D985B23A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1F27A-9C5D-40BE-B3FB-93AFF79462D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092240" y="6550200"/>
            <a:ext cx="243828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ACA4E-B669-4824-B24F-1E02DD3D18E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0CB14-6A60-43D0-ABB9-5E91E2F39939}"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111320" y="65419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125DE-C968-4F07-BE7E-E0370F588FB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092240" y="654372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56881-F6F1-484D-A647-0E7BA5A5670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F34D8-5E71-4D4F-BE2D-69308379F76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092240" y="652788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F95D3-F0D5-428E-9965-EF63BDBE408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AF150-94F0-4FC6-A3D9-F5029FAC4B8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125360" y="65516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9D510-8C36-4BC8-B377-1E21C4ECE5E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29429-B020-4BF8-AD82-4BC01A3C9BA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0987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66BBA-1A41-4E77-9265-48CDA2FB733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90"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2"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3352680" y="3268800"/>
            <a:ext cx="2438640" cy="320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TextBox 7"/>
          <p:cNvSpPr/>
          <p:nvPr/>
        </p:nvSpPr>
        <p:spPr>
          <a:xfrm>
            <a:off x="110160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33A54-376A-41EB-BD8D-9354FFAE6EC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F4224-ACD4-4AA0-8182-233C6E15E6D3}"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4" name="Group 6"/>
          <p:cNvGrpSpPr/>
          <p:nvPr/>
        </p:nvGrpSpPr>
        <p:grpSpPr>
          <a:xfrm>
            <a:off x="771480" y="6550200"/>
            <a:ext cx="8372520" cy="320400"/>
            <a:chOff x="771480" y="6550200"/>
            <a:chExt cx="8372520" cy="320400"/>
          </a:xfrm>
        </p:grpSpPr>
        <p:sp>
          <p:nvSpPr>
            <p:cNvPr id="125"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7" name="TextBox 9"/>
          <p:cNvSpPr/>
          <p:nvPr/>
        </p:nvSpPr>
        <p:spPr>
          <a:xfrm>
            <a:off x="1095480" y="65246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092240" y="653400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A2223-429F-4BA1-99F2-A13A45ED1B1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6B092-3EBF-4817-A6B2-5A7B10EC215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07316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792EE-4D76-4BF8-A94F-78EA355204A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082520" y="6537240"/>
            <a:ext cx="243864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C2936-B4F0-4DB1-B208-800C7493E38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09224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822C9-24F5-42CA-A8FA-991B1F03D2B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6"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7" name="Picture 4" descr="C:\Users\SAP\Desktop\SAP_iTunesCover_square_01.jpg"/>
          <p:cNvPicPr/>
          <p:nvPr/>
        </p:nvPicPr>
        <p:blipFill>
          <a:blip r:embed="rId1"/>
          <a:stretch/>
        </p:blipFill>
        <p:spPr>
          <a:xfrm>
            <a:off x="7696080" y="21096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548C7-21B0-4B18-9972-189E740D344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4"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ABEF3-46F9-459D-BF83-11E6627F17A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60FE2-C82B-4080-BCA6-EC0DD83CDE4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8"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9"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10"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1"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2" name="Group 2"/>
          <p:cNvGrpSpPr/>
          <p:nvPr/>
        </p:nvGrpSpPr>
        <p:grpSpPr>
          <a:xfrm>
            <a:off x="4538520" y="1695600"/>
            <a:ext cx="549360" cy="5029560"/>
            <a:chOff x="4538520" y="1695600"/>
            <a:chExt cx="549360" cy="5029560"/>
          </a:xfrm>
        </p:grpSpPr>
        <p:cxnSp>
          <p:nvCxnSpPr>
            <p:cNvPr id="1113" name="Shape 138"/>
            <p:cNvCxnSpPr/>
            <p:nvPr/>
          </p:nvCxnSpPr>
          <p:spPr>
            <a:xfrm flipH="1">
              <a:off x="4784040" y="1695600"/>
              <a:ext cx="1080" cy="5029920"/>
            </a:xfrm>
            <a:prstGeom prst="straightConnector1">
              <a:avLst/>
            </a:prstGeom>
            <a:ln w="19080">
              <a:solidFill>
                <a:srgbClr val="0e291a"/>
              </a:solidFill>
              <a:miter/>
            </a:ln>
          </p:spPr>
        </p:cxnSp>
        <p:sp>
          <p:nvSpPr>
            <p:cNvPr id="1114"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6"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7"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8"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20"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66E09-2D85-4C87-88E0-FF05CDA0E38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3"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94AE9-913C-4F90-9FDD-DC375C9F358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6"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20804-178A-4276-9A64-00AF2D405E4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CB52E-36D0-4083-B2F6-FFF97B8DF27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1"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D92D1-76C0-4C06-B0C8-7EA72E2081B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4"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DECA7-BCE8-4B6B-AA06-ABBA59DDCD6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7"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C00AA-5034-4A8D-A2B0-E614D3C500E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9"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8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DEF5D-C6CF-4E19-A208-C112E77321A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40" name="Group 2"/>
          <p:cNvGrpSpPr/>
          <p:nvPr/>
        </p:nvGrpSpPr>
        <p:grpSpPr>
          <a:xfrm>
            <a:off x="204840" y="507960"/>
            <a:ext cx="5065560" cy="3533760"/>
            <a:chOff x="204840" y="507960"/>
            <a:chExt cx="5065560" cy="3533760"/>
          </a:xfrm>
        </p:grpSpPr>
        <p:grpSp>
          <p:nvGrpSpPr>
            <p:cNvPr id="1141" name="Group 1"/>
            <p:cNvGrpSpPr/>
            <p:nvPr/>
          </p:nvGrpSpPr>
          <p:grpSpPr>
            <a:xfrm>
              <a:off x="204840" y="507960"/>
              <a:ext cx="5065560" cy="3533760"/>
              <a:chOff x="204840" y="507960"/>
              <a:chExt cx="5065560" cy="3533760"/>
            </a:xfrm>
          </p:grpSpPr>
          <p:sp>
            <p:nvSpPr>
              <p:cNvPr id="1142"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3"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5"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6"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E795E-1A45-4D47-9B2C-F3DD893D13B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9"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50" name="Shape 99"/>
          <p:cNvGrpSpPr/>
          <p:nvPr/>
        </p:nvGrpSpPr>
        <p:grpSpPr>
          <a:xfrm>
            <a:off x="5791320" y="1500120"/>
            <a:ext cx="2193840" cy="4363200"/>
            <a:chOff x="5791320" y="1500120"/>
            <a:chExt cx="2193840" cy="4363200"/>
          </a:xfrm>
        </p:grpSpPr>
        <p:sp>
          <p:nvSpPr>
            <p:cNvPr id="1151"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2"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3"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4"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5"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6"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D1373-5DDB-4B8A-A1A1-098BCC5298B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9" name="Shape 112"/>
          <p:cNvGrpSpPr/>
          <p:nvPr/>
        </p:nvGrpSpPr>
        <p:grpSpPr>
          <a:xfrm>
            <a:off x="2209680" y="2133720"/>
            <a:ext cx="4724640" cy="1802160"/>
            <a:chOff x="2209680" y="2133720"/>
            <a:chExt cx="4724640" cy="1802160"/>
          </a:xfrm>
        </p:grpSpPr>
        <p:sp>
          <p:nvSpPr>
            <p:cNvPr id="1160"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1" name="Shape 114"/>
            <p:cNvGrpSpPr/>
            <p:nvPr/>
          </p:nvGrpSpPr>
          <p:grpSpPr>
            <a:xfrm>
              <a:off x="2819160" y="3188160"/>
              <a:ext cx="914400" cy="747720"/>
              <a:chOff x="2819160" y="3188160"/>
              <a:chExt cx="914400" cy="747720"/>
            </a:xfrm>
          </p:grpSpPr>
          <p:sp>
            <p:nvSpPr>
              <p:cNvPr id="1162"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3"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4" name="Shape 117"/>
            <p:cNvGrpSpPr/>
            <p:nvPr/>
          </p:nvGrpSpPr>
          <p:grpSpPr>
            <a:xfrm>
              <a:off x="3886200" y="3188160"/>
              <a:ext cx="990720" cy="747720"/>
              <a:chOff x="3886200" y="3188160"/>
              <a:chExt cx="990720" cy="747720"/>
            </a:xfrm>
          </p:grpSpPr>
          <p:sp>
            <p:nvSpPr>
              <p:cNvPr id="1165"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6"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7" name="Shape 120"/>
            <p:cNvGrpSpPr/>
            <p:nvPr/>
          </p:nvGrpSpPr>
          <p:grpSpPr>
            <a:xfrm>
              <a:off x="4876920" y="3188160"/>
              <a:ext cx="2057400" cy="747360"/>
              <a:chOff x="4876920" y="3188160"/>
              <a:chExt cx="2057400" cy="747360"/>
            </a:xfrm>
          </p:grpSpPr>
          <p:sp>
            <p:nvSpPr>
              <p:cNvPr id="1168"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9"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7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2916B-0BFE-4B08-9AD8-A9B91E183DD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2" name="Shape 129"/>
          <p:cNvGrpSpPr/>
          <p:nvPr/>
        </p:nvGrpSpPr>
        <p:grpSpPr>
          <a:xfrm>
            <a:off x="1638360" y="2093760"/>
            <a:ext cx="5867280" cy="1901880"/>
            <a:chOff x="1638360" y="2093760"/>
            <a:chExt cx="5867280" cy="1901880"/>
          </a:xfrm>
        </p:grpSpPr>
        <p:sp>
          <p:nvSpPr>
            <p:cNvPr id="1173"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4" name="Shape 131"/>
            <p:cNvGrpSpPr/>
            <p:nvPr/>
          </p:nvGrpSpPr>
          <p:grpSpPr>
            <a:xfrm>
              <a:off x="1942920" y="3160800"/>
              <a:ext cx="1188720" cy="747720"/>
              <a:chOff x="1942920" y="3160800"/>
              <a:chExt cx="1188720" cy="747720"/>
            </a:xfrm>
          </p:grpSpPr>
          <p:sp>
            <p:nvSpPr>
              <p:cNvPr id="1175"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6"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7" name="Shape 134"/>
            <p:cNvGrpSpPr/>
            <p:nvPr/>
          </p:nvGrpSpPr>
          <p:grpSpPr>
            <a:xfrm>
              <a:off x="3520440" y="3160800"/>
              <a:ext cx="1287720" cy="747720"/>
              <a:chOff x="3520440" y="3160800"/>
              <a:chExt cx="1287720" cy="747720"/>
            </a:xfrm>
          </p:grpSpPr>
          <p:sp>
            <p:nvSpPr>
              <p:cNvPr id="1178"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9"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80" name="Shape 137"/>
            <p:cNvGrpSpPr/>
            <p:nvPr/>
          </p:nvGrpSpPr>
          <p:grpSpPr>
            <a:xfrm>
              <a:off x="5372280" y="3160800"/>
              <a:ext cx="2133360" cy="834840"/>
              <a:chOff x="5372280" y="3160800"/>
              <a:chExt cx="2133360" cy="834840"/>
            </a:xfrm>
          </p:grpSpPr>
          <p:sp>
            <p:nvSpPr>
              <p:cNvPr id="1181"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2"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8E77B-C775-4D2C-86BC-62232C14E23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2"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a:t>
            </a:r>
            <a:r>
              <a:rPr b="1" lang="en-US" sz="2800" spc="-1" strike="noStrike">
                <a:solidFill>
                  <a:srgbClr val="262626"/>
                </a:solidFill>
                <a:latin typeface="Calibri"/>
                <a:ea typeface="Arial"/>
              </a:rPr>
              <a:t> academic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a:t>
            </a:r>
            <a:r>
              <a:rPr b="1" lang="en-US" sz="2800" spc="-1" strike="noStrike">
                <a:solidFill>
                  <a:srgbClr val="262626"/>
                </a:solidFill>
                <a:latin typeface="Calibri"/>
                <a:ea typeface="Arial"/>
              </a:rPr>
              <a:t> 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31993-C6F4-48F0-86BB-ABF384366CC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2">
                                            <p:txEl>
                                              <p:pRg st="0" end="0"/>
                                            </p:txEl>
                                          </p:spTgt>
                                        </p:tgtEl>
                                        <p:attrNameLst>
                                          <p:attrName>style.visibility</p:attrName>
                                        </p:attrNameLst>
                                      </p:cBhvr>
                                      <p:to>
                                        <p:strVal val="visible"/>
                                      </p:to>
                                    </p:set>
                                    <p:animEffect filter="fade" transition="in">
                                      <p:cBhvr additive="repl">
                                        <p:cTn id="7" dur="1"/>
                                        <p:tgtEl>
                                          <p:spTgt spid="108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2">
                                            <p:txEl>
                                              <p:pRg st="1" end="1"/>
                                            </p:txEl>
                                          </p:spTgt>
                                        </p:tgtEl>
                                        <p:attrNameLst>
                                          <p:attrName>style.visibility</p:attrName>
                                        </p:attrNameLst>
                                      </p:cBhvr>
                                      <p:to>
                                        <p:strVal val="visible"/>
                                      </p:to>
                                    </p:set>
                                    <p:animEffect filter="fade" transition="in">
                                      <p:cBhvr additive="repl">
                                        <p:cTn id="12" dur="1"/>
                                        <p:tgtEl>
                                          <p:spTgt spid="108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2">
                                            <p:txEl>
                                              <p:pRg st="2" end="2"/>
                                            </p:txEl>
                                          </p:spTgt>
                                        </p:tgtEl>
                                        <p:attrNameLst>
                                          <p:attrName>style.visibility</p:attrName>
                                        </p:attrNameLst>
                                      </p:cBhvr>
                                      <p:to>
                                        <p:strVal val="visible"/>
                                      </p:to>
                                    </p:set>
                                    <p:animEffect filter="fade" transition="in">
                                      <p:cBhvr additive="repl">
                                        <p:cTn id="17" dur="1"/>
                                        <p:tgtEl>
                                          <p:spTgt spid="10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xt and academic language</a:t>
            </a:r>
            <a:endParaRPr b="1" lang="en-US" sz="3600" spc="-1" strike="noStrike">
              <a:solidFill>
                <a:srgbClr val="17375e"/>
              </a:solidFill>
              <a:latin typeface="Century Gothic"/>
            </a:endParaRPr>
          </a:p>
        </p:txBody>
      </p:sp>
      <p:sp>
        <p:nvSpPr>
          <p:cNvPr id="1085"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1627B-DB1A-443F-B2DC-8FBE9DD026C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7"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9BCE1-633B-4278-9887-0D0CD90E14C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90"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7CC21-8945-42B7-AC92-F77DCA4B7E0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3"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6CC9A-D6A0-4089-8176-195681ED1AB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6"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9"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10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A4FDC-0CF7-4CE1-8006-F5A82AC34F8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45Z</dcterms:modified>
  <cp:revision>44</cp:revision>
  <dc:subject/>
  <dc:title>Text-Dependent Questions</dc:title>
</cp:coreProperties>
</file>