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1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move the slide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1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 type="sldNum" idx="1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1F1C-EEE9-4031-BF34-611766A48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dule was last updated on February 20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F4BF-3E32-46D1-9542-8C8AB1D8295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C9B0-81F9-4761-B4C2-83449473828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BF72-DE1D-42C9-9B76-1822383D8BE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9FD9-ABEF-44C0-A988-139D1105518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BAEE-E2E0-4F17-89BF-18DDF973A93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28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147"/>
          <p:cNvSpPr/>
          <p:nvPr/>
        </p:nvSpPr>
        <p:spPr>
          <a:xfrm>
            <a:off x="3970440" y="9019080"/>
            <a:ext cx="30384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8C6E-A002-4E1C-86DE-7D2591E76C5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9FA0-66DA-4988-B968-630D49189DC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396B-E91C-49FB-B01C-6CD056C3762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D5BD-8651-46F1-928C-A6B0EDBCC48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8756-B061-4945-AE42-52BCC0356F1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5110-E67A-4098-9D7B-80FD87434ED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D4CF-DA08-4B2D-B753-182F7FF14A4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AB4C-00F5-48AD-8F07-F41C71A9518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AC65-A54E-468B-88B2-9A7635AD4E8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A24B-35EF-459A-BAD3-35DEBCDF962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A77D-A399-4EC9-9340-D87EEA57BCA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9506-81BD-4275-A8AA-07A9BC9D6E0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5D41-4ECC-43C3-B733-2D253B21E71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16C4-9AE2-4CEC-B85F-1955BF46174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659D-1E09-47E4-A120-78B22363AA0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68E5-DBE3-4E86-A61E-0F755DADD05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9ABED-5113-466C-B6D2-02771C5F1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E771E-4C9B-4B58-B85D-8EA6B397B4B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4B05CF-2BBE-4B14-892B-4F8B5EA0230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010DCF-8CF1-44F3-A61F-811A7CAEA2B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FC71E2-C8FD-42E8-BA6F-D3292B8E712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CABFD6-EB05-4FED-9D6A-A40F5DF983F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930BE1-4134-4BC8-9D39-576B2916E08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72850F-B64C-4314-B6A6-973FD5A2FA3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FA6AA9-77D3-4D0D-B0AD-3CB5DDF38F6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FABBCC-5772-4EA3-83E8-A7895185968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DE1B03-D80D-4403-9335-389AFA1F66D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E6C7ED-B7D2-492E-B107-CEEC128584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A85C8-7D5B-4C26-9CD8-D2E7424356C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59E329-7FCC-4EA7-99DC-27C218BD5B6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458A5E-91F2-4D5C-91F0-5C543EE7F70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B6BF4F-9D90-4ABF-BBCD-27A62C756BC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6ED042-0D66-4D3A-8614-EDF36FF0D2A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3D2C0D-81DC-407F-ABF5-CC5EF51FD92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F9ABFE-1F1D-468A-A53B-9FAD60E2B40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06A1AB-CB72-40CF-AF06-D6AD8A8A285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B6E8E0-9E27-4AF4-9539-8D98539D5B2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86FF72-3D93-4D4E-827A-A7643729D0F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429A91-FEA5-4512-AB5C-EC86514C6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366CD-2163-4D14-857F-6ABAF6B6671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36FF6-7717-4DC7-88B7-5BAFDC186BF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8B043-9B0A-4278-BFC8-F8FE61A3817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86A39-33EE-4F9E-BAE2-900F84AD18B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211B0-A88F-4042-B9E9-4BD5E15CD31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C3A15-DD61-4DCB-9643-AB0EAAF7A2B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F25E3-7601-4B55-87E2-4E417F8D5E7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F9A70-8AA1-4607-AD2F-0A8BFBCDCA7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1147D-8E3B-47BB-B379-3559A57A83E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9EF09-39E4-4991-8332-54261A2C939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AA600-8E12-42BE-858E-AE1553A3A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8CBE1-830F-455F-94BA-99852452085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EBD4D-89AC-4B87-B20C-21C5D7287D3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439AA-A768-4DF2-8505-686225DC7DC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FEB787-E16D-494D-9CD7-B065CF93B0A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A8BF15-E980-4739-BAF5-09A490C010A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CFA9BA-4804-413C-B090-F313F88502C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10376F-1B5F-4526-8032-55132A6ADDC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FB5589-0469-453B-8D1C-A7459A0B9BF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46CA16-B7AA-409C-9550-83AB5DE2DA9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4B28A1-2AE2-472C-B05F-EA01A599FE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4EF3A5-BFF8-4811-A95F-B4BEF154860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0C631A-6340-455C-8924-FF1B058F048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2ADEFF-41E4-4499-BFF9-059925DB68F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A94FB7-4A4B-44A2-8444-5EB1F3E551A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3B9F8A-0C4C-4EF9-B041-73CE6C867D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60516-5D23-4185-96A8-9CED58ED9C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0CE42-9422-42A4-A02F-C84BA9CC8E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1B2B3-6C1E-4A07-AAEE-31EB38A3CA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6F0C6-5A34-4702-B714-4827A497F9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EFD79-F2B2-4089-9BC1-384A25C834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935B2-2252-4E24-9455-B0BDA02BD1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3A44-97A6-4BE5-BE76-78D4B498AB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7A6C2-8C39-4AB5-9438-18B73DCD13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B662C-BA79-47C6-84BF-96966D0142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105A8-D3D3-4F8D-AA08-14B4C89681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69D33-1296-4924-8ADF-3260BE01A3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84190-090D-45B3-8E38-B6362B8B47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3DA71-A8E9-4044-94CD-9F84880DD3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99967-46C4-420F-9709-468C8731473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F5272-C048-4FB1-8302-AAE1AA986A9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86CF-7125-4BCF-AF1C-32C045475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9493C-63A1-4D6F-ABB3-C0C41D4268F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59D1-C285-42B6-B7AA-46A424DB3C6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7028-C4CA-4AA2-A0AD-F90F4CB7151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6E91-6F05-456B-9721-E6D4526515B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4FAA-0135-40F6-BD6D-4560DED2E57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4027-5965-4412-944A-B01C8855B9A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3333-1012-43BC-8FD8-2BB48BF3F59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D358-B1DC-4226-A68F-B1C0B4DF81D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583D-B0EB-4958-B935-B0850C6BABD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E37-4372-4584-88E7-1D1917BE5B5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0FC0-BCBD-4359-B517-D902AB203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F0FBB-7E83-48D5-85B4-44F39509C97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D66-85BE-4862-87DF-707333FFD90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4A160-45B2-4B54-A6F3-F47EB04352F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940BB-C904-45EB-815B-04AB8311B02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9DC22-508F-4566-8C9A-C0353C25B25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FF460-0F5F-4E95-92F1-ABA3B9C1789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7D316-6E40-4A8D-80F7-788F733CD43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00884-E33B-447B-86BF-97281554C0F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BF76E-12EC-460E-BA0C-2C6FF1CD40D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BAE0F-6EA0-4455-B0A3-2A0A292FD29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64010-1077-4B45-8804-B8DAC218DE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92C2B-72AB-4E83-8431-97F7E9CDF93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59316-DD53-47AE-9A83-E24E1FDDAB4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06963-1E1E-4B73-A5F1-ECB6A4B9A36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6BD46-10F1-4FDA-8B2E-506143C6C1B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4DB17-5C7E-4817-8046-AE710AC5727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2CF45-F105-4057-9B73-8FA958E63BA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EB3C7-57C4-44BB-9842-27C6724C599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45361-EB1C-4FC9-9A05-6AF7C0ACC65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9A1D6-7C2D-495E-8EBA-68FEA071511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6F6A9-080C-437D-8193-5C5937EACDE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97D18-D27D-4711-B320-9794F2C46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756C2-C1B5-4DA6-A5D9-C43CB25A1D8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7AA23-19FF-45D0-9FE2-6369190236F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01285-9608-4F98-91BA-75306BEB8EA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C5851-2837-470C-A75C-0469B528B7C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07D25-887F-48EB-B358-73F7F4BC341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EF944-7EB2-4D05-82BE-5C316A63C89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E9BF-EA35-4246-BADB-5EA8318D64A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C374-BC5C-4CC1-8A0B-D781D0CA8F1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73FB-D741-4C80-9038-5E7B3520E6D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7EA4-A331-4FAA-8A26-71F9AA8B1FF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EACE-00D1-43DE-9C16-016E052263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D5384-4E6D-45EA-AAEA-A305E29DADA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3091-3DBE-41CD-A5C2-665B7ECA0CA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043E-31ED-4705-9D67-58D80D3C9F9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5021-D7B9-42D6-9FB9-A5848E1FD7B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09BD-C116-421A-B44F-D56E0A24013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244E-7CBD-481A-A33E-306AEDEF8D7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59D7-3403-4F43-AA13-1FA429D0421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A99F-9BCC-466D-95C8-24BC1398BF8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D9A89D-7034-4621-9714-050A584F4A8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7810C2-A32E-4422-84F6-DFBC009770A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D32703-BCB0-404D-AA01-B3747E31C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23240" y="6475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8957-DD66-421A-A9C1-95ABDD3142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8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8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A84F-BD7F-4050-AB2E-4470AF24F7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27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9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5787-633F-48E8-9D05-0B7208FA25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7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10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3EFB-73AE-469F-AD89-2AA8C1F233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0" y="4032360"/>
            <a:ext cx="9144000" cy="158760"/>
          </a:xfrm>
          <a:prstGeom prst="rect">
            <a:avLst/>
          </a:prstGeom>
          <a:solidFill>
            <a:srgbClr val="1e7143"/>
          </a:solidFill>
          <a:ln w="9360">
            <a:solidFill>
              <a:srgbClr val="1e71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79" name="Rectangle 6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ight Triangle 7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2"/>
          </p:nvPr>
        </p:nvSpPr>
        <p:spPr>
          <a:xfrm>
            <a:off x="692892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C7E1-299B-48CA-B8A0-67EB2CFBB0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983280" y="6502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A155-3BBC-4DAE-9090-2A28E2D81780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6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124" name="Rectangle 7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ight Triangle 8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166" name="Rectangle 6"/>
            <p:cNvSpPr/>
            <p:nvPr/>
          </p:nvSpPr>
          <p:spPr>
            <a:xfrm>
              <a:off x="1098360" y="6541920"/>
              <a:ext cx="8045640" cy="3207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ight Triangle 7"/>
            <p:cNvSpPr/>
            <p:nvPr/>
          </p:nvSpPr>
          <p:spPr>
            <a:xfrm rot="16200000">
              <a:off x="771120" y="6541560"/>
              <a:ext cx="3207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3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435C-20C0-4A5E-AD95-3C9A8EDB1F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210" name="Rectangle 6"/>
            <p:cNvSpPr/>
            <p:nvPr/>
          </p:nvSpPr>
          <p:spPr>
            <a:xfrm>
              <a:off x="1098360" y="6543360"/>
              <a:ext cx="8045640" cy="31932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ight Triangle 7"/>
            <p:cNvSpPr/>
            <p:nvPr/>
          </p:nvSpPr>
          <p:spPr>
            <a:xfrm rot="16200000">
              <a:off x="771840" y="6540840"/>
              <a:ext cx="31932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4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8247-70FA-4A65-9B6D-2BCBB59256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5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5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F69C-8E93-4D3E-806E-9676B4EB9B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98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6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CF34-81C7-4035-A3D9-3DBF20308A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4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3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7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4DF1-55BE-41BF-B519-D0C485EE8A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165400"/>
            <a:ext cx="769608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3e27"/>
                </a:solidFill>
                <a:latin typeface="Century Gothic"/>
              </a:rPr>
              <a:t>Using the Publishers’ Criteria for ELA/Literacy to Better Understand the Standards</a:t>
            </a:r>
            <a:endParaRPr b="1" lang="en-US" sz="36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4271760"/>
            <a:ext cx="6400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22" name="Picture 4" descr="C:\Users\SAP\Desktop\SAP_iTunesCover_square_01.jpg"/>
          <p:cNvPicPr/>
          <p:nvPr/>
        </p:nvPicPr>
        <p:blipFill>
          <a:blip r:embed="rId1"/>
          <a:stretch/>
        </p:blipFill>
        <p:spPr>
          <a:xfrm>
            <a:off x="7658280" y="2286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F413-3681-4ABE-B820-1367E7A3D9DB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457200" y="2509920"/>
            <a:ext cx="820116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6-12, ELA programs include substantially more literary nonfiction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quality of the texts is high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texts and text types named in the standards are included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anchor texts are selected for especially careful read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87B5-1D62-4447-B6A8-297C0F64938C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do the current reading selection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in our instructional setting align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to the expectations of the Common Core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o is engaged in conversations about text selection in our distric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are content area teachers engaged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DB41-15B8-46FD-BE53-BF6304DB7054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High-Quality Text-Dependent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significant portion of the tasks and questions are text-dependent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igh-quality sequences of text-dependent questions elicit sustained attention to the specifics of the text and their impac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the use of textual evi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tructional design cultivates student interest and engagement in reading rich texts carefully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rovide opportunities to build knowledge through text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attend to analyzing the arguments and information central to informational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3CB0-8A4A-48E3-858B-73112BF508EB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Non-Examples and Example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6929280" y="654192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F6FB-9A98-40EA-9631-EF0E0BE63AA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43040"/>
            <a:ext cx="40226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Casey at the Bat,” Casey strikes out. Describe a time when you failed at something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Letter from a Birmingham Jail,” Dr. King discusses nonviolent protest. Discuss, in writing, a time when you wanted to fight against something that you felt was unfair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The Gettysburg Address” Lincoln says the nation is dedicated to the proposition that all men are created equal. Why is equality an important value to promote?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4760" y="1642680"/>
            <a:ext cx="3841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makes Casey’s experiences at bat humorous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can you infer from King’s letter about the letter that he received?  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The Gettysburg Address” mentions the year 1776. According to Lincoln’s speech, why is this year significant to the events described in the speech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Shape 139"/>
          <p:cNvSpPr/>
          <p:nvPr/>
        </p:nvSpPr>
        <p:spPr>
          <a:xfrm>
            <a:off x="228600" y="61228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1"/>
          <p:cNvSpPr/>
          <p:nvPr/>
        </p:nvSpPr>
        <p:spPr>
          <a:xfrm>
            <a:off x="457200" y="1247760"/>
            <a:ext cx="402264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Not 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2"/>
          <p:cNvGrpSpPr/>
          <p:nvPr/>
        </p:nvGrpSpPr>
        <p:grpSpPr>
          <a:xfrm>
            <a:off x="4538520" y="1349280"/>
            <a:ext cx="549360" cy="5029560"/>
            <a:chOff x="4538520" y="1349280"/>
            <a:chExt cx="549360" cy="5029560"/>
          </a:xfrm>
        </p:grpSpPr>
        <p:cxnSp>
          <p:nvCxnSpPr>
            <p:cNvPr id="565" name="Shape 138"/>
            <p:cNvCxnSpPr/>
            <p:nvPr/>
          </p:nvCxnSpPr>
          <p:spPr>
            <a:xfrm flipH="1">
              <a:off x="4784040" y="1349280"/>
              <a:ext cx="1080" cy="5029920"/>
            </a:xfrm>
            <a:prstGeom prst="straightConnector1">
              <a:avLst/>
            </a:prstGeom>
            <a:ln w="19080">
              <a:solidFill>
                <a:srgbClr val="0e291a"/>
              </a:solidFill>
              <a:miter/>
            </a:ln>
          </p:spPr>
        </p:cxnSp>
        <p:sp>
          <p:nvSpPr>
            <p:cNvPr id="566" name="Shape 140"/>
            <p:cNvSpPr/>
            <p:nvPr/>
          </p:nvSpPr>
          <p:spPr>
            <a:xfrm flipH="1" rot="10800000">
              <a:off x="4538520" y="186516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Shape 140"/>
            <p:cNvSpPr/>
            <p:nvPr/>
          </p:nvSpPr>
          <p:spPr>
            <a:xfrm flipH="1" rot="10800000">
              <a:off x="4538520" y="310032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Shape 140"/>
            <p:cNvSpPr/>
            <p:nvPr/>
          </p:nvSpPr>
          <p:spPr>
            <a:xfrm flipH="1" rot="10800000">
              <a:off x="4538520" y="4995720"/>
              <a:ext cx="549360" cy="366480"/>
            </a:xfrm>
            <a:prstGeom prst="rightArrow">
              <a:avLst>
                <a:gd name="adj1" fmla="val 50000"/>
                <a:gd name="adj2" fmla="val 50099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TextBox 14"/>
          <p:cNvSpPr/>
          <p:nvPr/>
        </p:nvSpPr>
        <p:spPr>
          <a:xfrm>
            <a:off x="5145120" y="1247760"/>
            <a:ext cx="384156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ultivating Students’ Ability to Read Complex Texts Independent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caffolds enable all student to experience rather than avoid the complexity of a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 strategies support comprehension of specific texts, focus on building knowled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 for whole-group, small-group, and individual instruction cultivates responsibility and indepen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careful comprehension of the text firs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the text the focus of instruc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offer assessment opportunities that genuinely measure progres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2FEB-3BB3-4D4A-8D6D-A5172E56AF73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Academic Vocabulary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ier 2” words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resent across content areas (in contrast to domain-specific words)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3C1C-DE11-42C6-8B24-A15BF72F30AB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What is our current practice of vocabulary instruction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Is it aligned to the requirements of the Common Core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college and career readiness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access to complex text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How are we supporting English Language Learners with vocabulary acquisition through complex text?   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6768-A615-4C33-8925-CC10CD6EBC1B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focus on forming arguments as well as writing to inform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elementary school 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middle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high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2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1096-DEC3-49A1-98CE-29EAA7F0111D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focus on forming arguments as well as informative writ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it clear that student writing should be responsive to the needs of the audience and the particulars of the text in ques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udents are given extensive practice with short, focused research projec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0324-BBA3-4439-8679-7E52C93C0A7F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cebreaker Ques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is the intention of the Publishers’ Criteria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o is it intended for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w can it support these different audiences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93B8-392F-4802-AD01-8F2296921F95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Putting it all together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four strands of ELA– reading, writing, speaking and listening– are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mean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o be woven together. This is as true in instructional materials as in curriculum mapp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l three shifts are meant to be in play at o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re is no either/or here: good materials need all of thi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e wary of materials and approaches that seek to segregate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Gothic"/>
              </a:rPr>
              <a:t>What’s In and What’s Out?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68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IN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OU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Leveled texts (only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any ‘ol tex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Solely literature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llection of unrelated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to-self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writing without sourc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literary terminolog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p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end goa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(peripheral and detach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28600" y="1676520"/>
            <a:ext cx="4268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Daily encounters w/complex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Texts worthy of close attention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Balance of literary and info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herent sequences of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dependent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evidence-based analys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academic vocabular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reading &amp; 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means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</a:t>
            </a:r>
            <a:br>
              <a:rPr sz="2000"/>
            </a:b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(central and integrat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04560" y="1371600"/>
            <a:ext cx="67770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It all boils down to. . .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Content Placeholder 2"/>
          <p:cNvSpPr/>
          <p:nvPr/>
        </p:nvSpPr>
        <p:spPr>
          <a:xfrm>
            <a:off x="1042920" y="2362320"/>
            <a:ext cx="6777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Texts Worth Read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Questions Worth Answering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Goals for this Sess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closely examine the Publishers’ Criteria in an effort to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in a deeper understanding of the Common Core State Standards and the shifts they require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the Standards’ implications for instructional material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dge materials for alignment and reflect on the appropriate use of existing classroom resources and strategi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1D92-E4E0-471A-B6F2-79E7DEBC98BB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ELA/Literacy:  3 shift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091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practice wit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mplex te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its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language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, writing, and speaking grounded in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evidence from text,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oth literary and informational</a:t>
            </a:r>
            <a:br>
              <a:rPr sz="2400"/>
            </a:b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Building knowledg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roug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ntent-rich nonfiction</a:t>
            </a:r>
            <a:br>
              <a:rPr sz="2400"/>
            </a:b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Publishers’ Criteria for the Common Core State Standards in English Language Arts and Literacy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ed to guide publishers and curriculum developers as they work to ensure alignment with the CCS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cuses on the most significant elements of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ot intended to dictate classroom practi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rised of two documents: grades K-2 and 3-12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imed to support the responsibilities of both producers and purchasers of instructional material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F695-B779-475C-B49C-3B37D8DFD2B6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Document Organization 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 section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Text Selec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Writing to Sources and Research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BBE7-FA27-4A0E-BCA6-1ECF27DE0843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. 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ign with grade by grade complexity requirements outlined in the Standard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Give all students access to and support with grade-level complex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shorter, challenging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novels, plays, and other full-length reading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rease regular independent reading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7032-C230-4BB6-BFBF-E5EF1C78743A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Features of Complex Tex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0948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ubtle and/or frequent transit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ultiple and/or subtle themes and purpos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nsity of inform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ess common settings, topics or even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repetition, overlap or similarity in words and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lex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ncommon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words, sentences, or paragraphs that review or pull  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ngs together for the stud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onger paragraph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y text structure which is less narrative and/or mix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ructur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 of passive voi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24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  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at practices and materials are currently     in place in our instructional setting to support  </a:t>
            </a:r>
            <a:r>
              <a:rPr b="0" i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all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students in accessing appropriately     complex tex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ere do we have need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(materials, PD, assessment tools)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3411-01A5-418F-BE10-B93ADB66CACB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00:06:53Z</dcterms:created>
  <dc:creator>Sandra</dc:creator>
  <dc:description/>
  <dc:language>en-US</dc:language>
  <cp:lastModifiedBy>Pascale Joseph</cp:lastModifiedBy>
  <cp:lastPrinted>2013-04-08T14:38:34Z</cp:lastPrinted>
  <dcterms:modified xsi:type="dcterms:W3CDTF">2020-01-23T19:22:26Z</dcterms:modified>
  <cp:revision>112</cp:revision>
  <dc:subject/>
  <dc:title>Using the Publishers’ Criteria for ELA/Literacy to better understand the Standards</dc:title>
</cp:coreProperties>
</file>