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DFF5-1D89-4EB4-9C42-F37F62031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B0A0-A4F7-431E-BD6B-5FE119F304C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8518-8EEA-48A5-8F2C-8408FC9FB9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EC67-0DA3-423A-90F9-4608DC033B5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2DD0-2E3F-427E-90B7-4964C5CC4D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13A2-9B6F-4C4E-86C5-2B9F03508D0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485D-0036-4E39-8095-DAA0D221AC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18773-FB9D-49FE-953A-74AFB65DA7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60B8-B4A7-40A7-8B7C-B560E43A0CE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04E5-E11A-4853-9A21-5564380D33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677B-1B17-4F01-953A-122EE10C6D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BE34-C68C-4F49-B4A2-A077335376D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2608-AE22-4173-8AAB-9614ACFA93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3799-3054-4584-B42E-79F9700767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6941-7037-4713-8331-B9919DCD04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5BD3-F60C-42A1-8D9D-1A597DE6538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B02D-F484-4017-BD56-042448974F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7F3A-5DE3-4A06-8032-5AE0F6A02B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12A7-B252-4806-A13D-4206414ED1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1E0D-7F39-4163-B0B9-A3EAEE348A7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6F18-2026-4911-9930-F4957194ED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0FFF-155B-4D8D-AAE0-C65B56AC891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4BD7-9EFC-49A1-A445-14913094F3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71EB-C21E-481A-BE79-9508663511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F3CE-9FF2-4EE3-8DC2-E748297334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C228-9072-425C-A1EC-9C9BEB40A02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AA3F-3603-40F3-94B7-1B9AAF8D4CF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A219-82BF-4ABF-BB59-AC9223D6848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E891-BC48-45DB-8839-F9E7DC5CDB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070FB-DC6D-4201-9266-6A3F9C5EC3D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E392-0476-470D-B5F2-8FA807553A9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DAD5-EBFC-4F41-A9C7-29BC19CA91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8861-CB24-40EB-B462-EAB5BAD4537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C52A-EBD6-4866-9CF6-BDE340CB99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AF0B-A203-420C-B76D-7A385A7C28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C7765-347F-4502-938A-2506F6A741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9EB8758-7076-4D2C-AB35-EF6E7BCE0BB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B60B548-3870-4260-8A87-C4E4DDAA945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B130AE77-09FA-4759-BA66-F447076A45B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DA98B91-6E0B-4271-B086-F702A060954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650A1F6-F45B-4C93-9BBA-BCD9509E52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935E0DC-2D08-408E-B947-F700BCCF8C3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4D24719-2AE4-4678-9DA5-6D7049738FB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E17BA33-B74A-41D1-8F8F-84B85A6677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B8931CE7-525D-4269-AC39-2590A436D85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92E1CF4-142B-401A-A25C-BB0974D07B2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83B7777-0768-4ED3-84A1-8426DAE3A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0BF0640-7969-44FA-9882-45639F40DA9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A09E6D3-82E0-4204-B362-E34A7453358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A63E0ED-2C82-42C6-A08D-B86ED5F547E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E33048A-44BD-4610-A90A-D96A4FEB77F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18C537D-A743-4BC3-8058-6C569789B56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3037C10-398E-427D-9F05-CFAE6183A7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8EABCD4-7293-47BA-90AB-DC4C7730CF8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8A2AE06-93ED-483B-AC00-DBD04544E24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FA7BF01-D95F-42EC-8B1E-20D67D30111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B8046B1-407E-40AB-BC0D-5B8C47A7BF9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4739A0BF-0EB1-4498-BCD5-B28E15CB9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8F4CAB0B-FB74-4306-876C-B25D19E2814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F904F832-4C34-4781-BD20-115BCA73F9B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15E0EA4-0E20-409A-B329-A5D16B44E2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C5E50D5-E323-47F2-89E1-3F9125F6558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8744467-4F13-46AF-B0E4-C425BA740B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379E9E0-E7EA-4C75-AB2C-B2BC2E71695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C1640D4-886D-4752-B688-6FD0E7323C9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8482645E-182F-4B4B-82A1-38A5D858469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2FFD0F1-5D00-4EE5-BEB0-4BA424FE75F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A6E5E61-5C9E-441F-B935-40F04AA392E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478B04A-960C-4FCB-AC71-3E1D077127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C2A50B-0255-4413-8FA2-4CB1A3C7603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B0D13EA-C586-4378-9BD0-CC7211839F9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54FDB1F-F709-47A7-A525-183357E0E95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BE0A73E-D3C4-4240-B59D-8C3E9FB628B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0AF57B7-5AB3-4CF4-BE8F-E7B437D45BC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BE060C1-0E19-4987-88C0-D3EA37A1DE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CF29E21-6A48-4C71-9571-A15AF2E05A5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923D832-2231-4682-A3FA-48C12F858EF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28DF2C26-9E53-446A-A85E-2D6454BB233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403F659-8047-4EA8-97F8-E1AA363CEA1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6C9F73E-CF3E-4DF2-9F82-DD3B6299AA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C47034A-9748-4D40-B684-D91B4BA350C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38D2AD8-8B51-4684-9D20-8F7A8976ABB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5B97FB5-F16B-4357-909A-0C7232BDE03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E638097-87AE-499F-AEBE-B13010AF253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915940C1-E3DF-42EE-830D-4DC1E3F094B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930E4E29-1087-4C16-81F2-1B410EE354F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1CD4C01-E8D2-4E19-BF99-9FCC5F33BB5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7CA1D1E-941E-4F18-8A87-A9E0FC4EFD4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9741C32-1336-41CB-AACC-8ADB044BFE3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5E856EA-FD71-4E2E-89F0-197B2194A44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91A6466F-8F66-4729-8C70-CA2DEA822B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B6FDE32-FE94-45A0-8F79-57B0B9548E3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81F0101-EBB2-417E-A0CE-2E095BC7F75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8CE1DC7-68D4-4483-B72A-DA774065F08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154A0F6-B5BC-4677-B97B-18552427600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6FDC375-7983-415B-8840-0AC18BE771D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27ADB1F-C1E2-456F-BD6D-D30E7865FBC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848DA0C-8541-4F6F-A48C-8787190E683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83CB828A-9990-40FB-9F98-CE9214B5C2B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CD73F57-5AD4-464D-97F0-B7318DC2AAB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A53FEC7-4985-4572-BFB2-01B070B5BB6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5B8F1CE-E2C4-4B6D-94D1-A3CA3F7B16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B91900E-99B4-4958-832E-A8C558B072A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2B95FF7B-3EFF-413E-925E-699FF5EC6CB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18E333AD-4504-4AD8-A8D7-16EED33CB56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58624CD5-9E5A-4E2E-99A7-D978822FDC3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9E9DD48-9CE8-4924-A08B-A30BAE5C1F7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A9DDAA4-1B22-469F-9B10-6DE763A9910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12F6732-CBC0-4BFD-85C4-00F24B1445E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7D419A7-3390-4FCF-A357-E7952136559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32696358-8A99-4A07-B965-C51C02C2771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48F5036-4EBF-4BDC-9566-7BB41A64702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3997257-1A4D-49F5-BBBB-9B08EAF3E5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133F43EF-BFC0-412E-B074-F9E28880691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4724FF6-BA38-42A4-A13F-B82A89C5616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250B948-5203-4D2A-89AD-7634D04A2F7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C47750B-26B4-4FFE-83E6-B36E969D938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92B5DADC-9E28-453B-80EF-E6C6E9248B4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AAE1098B-FAF9-4E05-B5A6-2739281B23C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EFA300D-55BA-4B93-B673-256A876DDF9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BE65C36-0864-4BAA-9655-4CC19C3BC24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252A4BF-F13E-4F6C-AD0D-7B7754A2BDA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A144EFF-D730-4F4F-A2AC-1C18D3881ED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0BA6DC56-D8F0-459E-9857-2BC6D97B9F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9EF1316D-8D5E-4590-9669-0B4D895A03B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71065F50-3535-4164-8B14-D58AF6D1143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734659F-5C6E-4BEB-A20E-529BD9D379B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C0C3650-6ACC-43F1-8521-DA836C5E153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42F1558-A823-4FC2-BAB0-A366242F4EA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CBC6E470-30CB-443B-9A95-77A96EC401B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9874A73-DFE9-4F7C-909A-CA09095AE77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01728787-28D1-4354-A844-6A28E0BBA26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533F515-E1BA-4A42-9312-BD6E2B4E7A5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8E946B6-90C4-4D80-BB7E-A60822C486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74F922B-B320-446A-BD3F-52573BDEA8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3772F5B-C2A3-42AA-BBDD-4F89AB1072D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286032B-A8E4-4CE0-8BAB-6AE9F77A5C3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752A82C-EE7A-4502-B160-C0968B3FFDC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AA8AF4C-E0F5-4AF1-AA54-A438859D6BC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0BCD174D-E028-4BEF-BB98-484BCD9BB7A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AEE45F7-6413-4BA8-91E8-75AFC9C9642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A21F4A2-4FE8-465A-AC17-FA3D39A0938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D478CD6-06A8-441F-A2F9-37815A6885B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AEE5381-846C-4C35-A1FB-A496030E01E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0AC9A7B-D17E-471A-A67D-B2533719B5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A222FA7-FCD6-4DC5-961F-33F2366B728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B549F89-1675-49B3-BFA5-EB56C803BBD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5336D360-71DA-4151-B202-30979E9266E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9720B53-6252-4526-8CAD-DAEF49B49AB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E993F06-61C0-4D87-979D-D446C780400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4F60A12-1E13-4230-997E-6559391F92D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8C782FB-6EDD-4F19-8C4A-CB3C7EC8646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413CABF-C581-4727-9179-6E1240F0FCD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D3C17DB-B0D1-4DED-BB5F-85D3636D963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4D83D551-8CC4-403C-B0AA-9C8A4CCAE88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8BA14F6-C82B-46F5-BF76-C9B2B57464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6B626E71-B42E-4D46-8C59-E0EE6392B28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BF3D543-992E-4D14-A321-37B74F3DCD1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93A5815-FC62-47A8-92CB-D185E07D37F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C0F3B84-51F2-4BD7-AFB1-8482AC99529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8F5159EF-205C-42AE-82C3-EA41EDD0A34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CF2C17C-EA77-4531-99EF-D22AD1C53C0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A77650C-7BCD-433F-ACEC-6B79B108FB6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C4D24CB-18D6-481C-888F-12ACD63A99F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1D7A183-4653-4722-8495-D8FF216C9C2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036DF05-83D6-4EC6-AAC7-F97EB273B2A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E498309D-CFEA-45F8-8F06-FC7A407209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B30DCA8C-DAE0-4D71-95A4-0C434505DB1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C549F92E-C117-4F57-908E-3AA535D00B1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C84D772-D599-43C8-91E0-E6772776B80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495BD57-0C90-4E44-9578-CD6A148BB08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471D37B-F56A-4E35-B82C-04522C10382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DAC2A87-63DA-4A46-8E8F-522BA18B25E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68A27135-50E1-489D-8DF4-8BEB13234AA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D74F653-CE0C-49E6-A3EC-1E6BE123A0C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A4CF346-A50D-4979-B1E4-EE212981F0F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BF312C2-F126-436A-96DC-D9DD4636494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B5E79DD-DC1A-47A3-850D-6EF95C783F0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2A5D5D-0F56-4D70-A448-4844DC96CA3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0CA439F-C9B0-460B-90E4-AC541F88A71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316E1A8D-7D73-4986-B4C7-AA89A32E792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CA35446-9E4B-498F-A3C7-CDD5CFD5DBA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F8987BD-A5DD-48E2-8846-AB2931E929F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5A4E4BA-4DFB-462E-A024-0CF0604B2B2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5FC20143-3AD9-41AA-B822-AC54228354A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B121B49-1395-4580-9B8B-A506F4A5B43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5098C6D5-C1BD-4942-81D6-0179FF40104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12352DB4-A053-40DE-BBA4-9C54253C663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C204BF7-70EC-47E1-816D-AC8422505F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B803514-E80A-43E0-8AB4-8F6A326288A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B33FAE1-9A6C-416D-BAF7-33CFCDEB64C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DCE9E59-7169-40A3-99A0-6D0039D0831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1B85A87-F032-47AA-862D-E530D608BCA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0815D0B-5935-4347-BFC9-A8FFFE8C806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D3218637-BA08-4AA0-8402-B456B5806DA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0B327E8-00F6-48F9-93F2-0F2F779A0CF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05560E4-EDCE-4C10-B792-15061168FED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FE43E1DF-7D34-4588-A366-A1B9BE0DBDC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EE163BC-9597-42EF-B97A-F5A6AEE1ACB2}"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4EBCDE9-5932-482E-AB39-BD2234756D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33FAC07-019D-4F9B-89DA-CEB9ABB45FE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3399F3C0-43E2-4C12-A3D5-E629709402E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0A9B88F-3846-45C5-AAEB-D538C7375E5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823BD27-23F8-4803-AAE8-FBEFC7CE101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2C11A7D-D7DA-457F-BCEA-DF583F9DB9A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43DB5D09-BF50-479A-8AE2-D753F0FC512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CBCA156-6182-49C7-B661-3E58274AB24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9B2AA76B-25FB-439D-9FFE-04EA1D245F94}"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1784C20-2E35-49FF-BEB7-08704FA1C0D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499B077-6776-4491-BD75-EB7F3360702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45BE00B1-1BB7-46EA-83BA-5448C23C879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0135660-3EBF-43B1-8416-0A3F4664A87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07EB98A-8EAF-4EE2-8CAA-211B25DA309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FC398A7D-001A-43D7-A34D-38C33E87DFC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F48F15FE-9737-452E-A75F-EEE5AECE545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AE96A9C-BE28-45CF-9B2C-6A85463DEF1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535C3CB-0650-45AC-A682-B90494AA847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878FB5D-E93D-4D42-96F6-E20446520ECE}"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F1360478-6A20-4D8A-A8B9-57D6BB0B36F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E380733F-4CCE-4F30-A8CD-16EF6924D5F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8A8D142A-5242-4961-BEC5-D11D2A2FD85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AF87C140-15FD-4995-AB25-8ECAB0CAAB8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0C52EAE3-3EA5-4BC8-A3E3-6FE6A118534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3F6480CE-BF99-4AFC-BB4A-9DEC88EE7CD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8F2C3272-E498-4F66-893A-E861F182A66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B86002CA-994C-4392-89EE-32FAA13570E0}"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2D9A9275-0896-4024-9803-0BCE8E9397B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18A8C5D6-BB24-4AC3-AA74-5CA8A41D64E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BD7E0682-6201-4CEC-ABA8-B081BE98225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4CD8C79B-68A4-420E-A3B5-C29E0BEBC84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20765022-AC29-4CE9-9270-6FAE7C3A094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8642743E-E029-4559-87DE-9FD697A09E6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2B0822D1-197E-482B-B87A-C5CA25ACE6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C119A47-7507-4666-A74D-B12671BBC6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319E194-73D3-48EC-856D-A190490F044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EF62E179-3B15-4409-850D-70050E90BD1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EB47EB8-1B7C-48AC-8CC6-6988CECAA208}"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DBBC43DA-86A6-49B0-934B-29D459771CC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7E8B08F1-12E3-402B-97EE-10BBCB40EBA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16366C86-ADB8-49A3-B305-315FFC0269F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39E58B8C-64DE-470D-92CE-43FDAC6EBB29}"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F30C569B-0ABB-40E3-BC00-98969807B16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CAF188D-3DD4-4249-939D-40283C28E0F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2A4C92C-CCBD-45A7-ADF8-18E2AFA92C6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516A400B-A3EA-4084-A756-AFD8142ED1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FF3FE13-A9C8-408C-858E-418B254DEE08}"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27D3800A-E78C-4CA8-A72A-0D9BED0FBC4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57B45360-49BD-4162-B46F-6ED4EBABAF8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FEB9948B-BE55-4641-AAD7-FBB677E67C7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B04376C-916D-4DC4-8638-45DD92EC7BE3}"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1641E73-75CC-4A60-9023-7B9A59216F7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841AFDEA-3D5A-492D-B534-0B31585DB343}"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18B78E73-6503-402F-8BA2-800695055B34}"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46928479-E5E9-4571-B177-54635626BAE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FBB9ED35-7941-4B85-9016-F13D7909C3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534DC40-4E73-49A1-B52D-3106329A3D8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431231D4-BC1E-4E48-AE91-CE172388933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21C55C8-C39F-40FE-85F1-375314E68B2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1446BBB-9B65-443C-801C-2446480F028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7FC1F77A-D865-4751-BEAC-F17D8B25C69A}"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CC410FD1-9657-4714-943A-CFD4EC48C78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C45E2A54-4D56-47DE-8D44-0481A503AC4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E0854401-FD88-47B8-A389-7F6ABB4423C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44B0A3B-7859-40E3-9E9A-F058AEB798A0}"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33FE7B6-6730-4CFC-B482-4D96EF062E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E476A38-C0C5-410B-9166-A11FCBE3E0C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0C124BFE-F3B8-48F4-8B29-8A502DBE690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C5E5BD90-AC3B-4509-8307-8B2E391F3C11}"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1EB0F5C2-27A5-4AD8-B06B-7303E1FF697C}"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178CA085-536C-4578-BA71-A544B9BE15F7}"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DC7134F2-ABAF-41DB-8617-0B86DA5C57D6}"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7DA752D-6DE4-49CB-8CAB-0EC0C6A33D4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2032879C-DDD3-4A21-99EE-30D325F41788}"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7F25D4F-670C-495F-83ED-BD4B4FA3A13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A281F786-B146-449A-96BE-845AF3DCD55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FCE2D5FE-639A-40EE-90CE-49835B4134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7379F59E-A12D-4419-96A1-41619F15FBE0}"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82BA5EA3-85A8-436B-BAC8-F61C1E94BAB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E108BF3-45F5-416C-95DF-20F9F0772232}"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917593D9-4373-458A-ADCB-EAF8AC5EE86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9C702343-3C32-4CAD-8E0F-0989BF740B2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34C5B4E4-6767-422B-A2E2-A70DBB272504}"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4B5BCFA6-2072-42D8-B30B-D94EB2441AAE}"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4FB88DA2-AFEF-4156-BB33-A281E029604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459F002B-BBC0-4453-B292-1F99A0854A61}"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8166B3EF-4C7C-49E2-92FB-D2B49A1CDB6F}"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EE911D15-D2F2-4C6D-9277-DAB115951E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B319B1EC-03AF-4FFF-B673-58762F655ABB}"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048566EA-39D4-451B-9EF2-964998EDF8FF}"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39FE369F-F8AE-4643-A32D-F3ED912682A7}"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563AB84-0866-41EF-B42C-012FE00FDA1B}"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7CFB8E0F-CFAE-4E90-A3C3-FB4ABFEB5466}"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E16302C9-4344-485E-A449-33D462B3EB6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F3F75FDD-93EF-4216-9103-0F05AF13441F}"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B2CF25E9-02D0-4E9A-B4D2-BFFCD1E3A7C8}"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F54CCC8B-0DDE-4CF5-8426-8AB8CA23A9EB}"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9C4D337-A452-4166-ACCF-32B0D57E7AA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D81C93F9-FDBF-4D93-91E3-1D6C2F723096}"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CF9F4DB-28D8-42BC-A0DB-2350FF6F9E26}"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1181E7CF-3810-47B0-AC06-073E60E68833}"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93DA6DB8-5AA7-4223-97CF-5B5B0A4B806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460DAE65-CD79-4E68-B5D1-E4B58A8F687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E75A836-EEAE-4A40-B44B-E46C393F8B2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03054CF6-D3F5-48E5-BFF4-495576E84702}"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7885F884-B59E-4315-8D81-587EDB0BBF80}"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20D491DA-6CAB-46FA-A970-608EC173520F}"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0433C651-91FC-420C-839A-370E120E0DF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D960B356-384B-41C5-8F2C-C03151B0C2A1}"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FA5B8A5F-39B8-4F87-87EB-6D7FF4C66D33}"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143DC722-4872-41E4-B1A9-75AF3796B4B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7D74428-8F94-4B3F-8D84-BBFC325E367C}"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84496783-009C-4756-BE20-DE23ACE161F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FE008143-4EE8-4122-BB8A-58A8DDB98592}"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16E49FEB-D516-42F7-9AD1-57F5C63B36E1}"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165C07D-F825-45DB-AE88-9E910A8F3C50}"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5D2354E0-2565-4DBC-BE05-1C2644BE461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141826C-F4E4-4467-A945-FB44F062F3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F5F1D04-D93B-4870-938B-D098DEF9B9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282B1016-04B0-4B9E-A2FF-2DF433D546B1}"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6F2F9E94-0A4E-44D0-8BD3-970D0994F91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28735C26-17EC-474F-B0BF-BAFBADA9BDC6}"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C4E2972D-A237-412B-9775-CF9F4CB5FDDF}"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BFB27F8-F391-43A0-B980-8E86391AD07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3BD66C66-0896-49DC-9650-A3BAB7618AF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B1596FDF-9EFB-45A7-AF1C-876E0C81E70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04CB88B6-BA44-49A5-AA6A-36281CC276F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AD58BFE7-46B3-4F99-BAB6-219DA0F9D8D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DD8AA06-FFC1-4E79-98AE-B1AB1F10A3E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633155DC-4819-4CA2-BCCB-0712FBA3BFD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4CF5C73B-C650-4DDF-AD9B-512B8DC77DC3}"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B3AF5644-2B9F-47C1-A70A-CAD24953340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0D9FEBB8-AEC4-478E-91F7-EF4FBAF3578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1A3A8D39-6531-4F48-A318-CAB808D05477}"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D026925E-6032-48BB-B0ED-34B68BE78AB6}"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3AF261AF-559B-4DFF-BA70-032967E85547}"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E92E5A6A-4E9D-4B53-8882-A532CF1FAFAF}"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123D7A91-CEBB-4D99-B72F-AC97F4C54D0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7BA79169-EF4F-4843-9844-F3AD3C2D0AB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4180961C-7B7D-4DE6-BA54-B53831288189}"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7192B884-68C6-4C73-AB84-BA96615C773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33B71E0F-E510-44C9-954E-6AFEDA973FC6}"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2A8A4A3B-632B-46AE-991B-77BBC3412621}"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8EA6EF94-9134-430C-8F5E-D855127D30D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67DAC7C8-931B-4390-BAD0-602111D5EC3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44F97CCE-B68A-4FF2-81C1-B8CB99B42FF8}"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4BB23E40-CB7D-458A-82B5-AB4086439E3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2FE8EAB-9239-44E4-A791-90ACA6F32104}"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C4999342-FC7E-41F5-BD22-A7CD3734B4A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C33F2EA5-D09C-4DDB-8760-A82C839AD5FD}"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6DFB06BE-E7D8-4D1B-9E03-ACD79BBE14BF}"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E06CF3CF-6E03-4EA7-BE65-C38DC9A19D3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A241E63C-30E1-4C60-8DC9-2ED0F9BD981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2D80D329-FC7B-4539-BE72-EF6FD9A59934}"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E1D8928F-F7B4-47A3-B282-A116EE87AB1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01985639-2B4D-4A7C-9757-711DE6C8A06D}"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98021967-DA25-4516-BF90-6C1C4DC3A358}"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AF84F292-5990-43CB-B597-4D128443591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609BBC05-0F44-488D-856D-2BB324C0BD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5FC63CC9-0142-4AE4-B8C4-662878A3C75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B620DCE9-C54A-4EE7-A69A-7D3A8941B42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6C8C084-FC5F-457D-AC9D-EACFBD001F0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684EBA8A-F35A-4B24-8DC1-F5B5829E379A}"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7395A6D1-BBEC-466C-A16E-27735F05B7C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AD3774-B537-4654-B1CF-2AB9534DAA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62DEFA0B-4960-4220-82E1-87A66C7CCC2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D2545111-4433-4CD6-8DBA-8A4123E18BD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3AB4D51-9BB1-4576-B95A-BFC44AC893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AA026D8-6602-45FB-AA01-96351C0DBE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1167C1F-E490-4076-8B08-8B98A050ABA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5FACC5A-D34B-4906-8030-B5F04EA067F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38F73C2-DB12-49C6-9CD8-552A6EE9C1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0AE6E23-DE38-4685-8343-64BB85DF11F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4E15101-E2CE-4BA0-8AD6-587FD6FEB80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9CB6424-F2BE-407A-95D6-3EC6BB7DBE3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40F48F7-1170-4615-AF16-4579964588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93642D0-FF66-4EEB-83AE-32BF035BCC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B9F9918-C77F-4122-BAE6-0F6C870D1EA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2587430-57C4-4A0E-8F91-B0A85BD978A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1AF422D-D824-46B1-89D5-5DAACC913A8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756AFC9-F88D-475A-9782-751904A0EDC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C7D8CA5-A03B-4580-BB7F-62D2CDE80F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CB235CA-0362-427A-8937-42E2DA7DB7B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C3FCA25F-EF58-4622-A316-E21A78040C8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C53B6C8-0A8F-4901-A367-534F121FBB5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90C983B-6276-4AC0-A5C0-713F5C7F3A8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8D1FA2B-AAB3-4887-99BF-426CB341E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DC04589-C508-467F-8C83-A490A73AD8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3C7B768-B03D-4BC1-A810-CD8BBFBDAB5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5D99E6ED-7252-49E8-A2B5-5B387227FF4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ED3EDCD9-FA0F-4A9F-89FD-E7A9878A199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DE3D4A3-5F2B-4919-8C16-D8ED285DC1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FE2495F-3407-4D68-A3AB-B6DA41DB1D3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4A24D72-BB62-4878-B300-21D733DA32E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0BC360E-D297-4F52-A715-307DEB326C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E3373AD-D955-4A6B-B580-03B9C6BB7AD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6540563F-0773-40C2-81BD-9C2D274BD5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6571524-2260-4B1A-9747-6ACB226C9E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01E7A7B-3878-4182-B8FB-061DFF25253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117ABA3-B972-42FB-A8AD-1892DBD9E1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9BF2EE4-4B91-41CA-9E11-8F2C0EC74E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5DB491E-1D25-42B4-A1F7-75FA7B4887A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017100D-0D75-4068-81BC-75B63EA8F59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7E90BAB3-ACE3-4FEA-826D-517F623E9B3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A69F304-9021-4B18-98C4-DF65A32658E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E4B7273-AF4C-4785-9C7F-B5B2259A596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E60CB1F1-D8E4-437F-9EF2-B4B994263FC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287AB25-824E-4656-9F74-AD3F46F143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45F2-09D0-483A-969B-7B4B7311D9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DB512-4554-4E52-8719-73EF966B91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2057-0A23-429C-81F0-7D969CC1F4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8C34-E076-44AE-865B-FDBAC1B68A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05C8-C693-4B5E-95B6-DC21C3C2E6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0340-DEE8-437B-A02C-82E7334677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66E4-DEA6-4C4B-91A7-2F5359FE2A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0B70-604E-4FC1-BBED-71581C7627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5771-A5F8-4209-A6F5-FC666E9BDE0D}"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2D89-8D5F-410C-B3B1-8AFA9649B4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D4E1-8DE0-4BD9-80C1-36DC8C47FF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405E-A994-4FB1-A341-7E3DDC974B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E812-F985-4B24-B763-5BC34A5E13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49B2-987F-46A6-A6E0-DD5719112C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42C4-2A53-4342-BC6C-855C5474F4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7D5E-2B11-4754-B015-FFEDD9B40A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FF5B-C091-4E3B-B6EB-0A000A4C06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CDAA-7B71-4F78-8908-39886EBF77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BA9E-E33B-4C10-B9BF-BB03365C9F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8281-9C0A-4F80-A07A-DF6A500911B5}"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530B-B900-4E9C-A962-41890DFD58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99A0-C4A4-4680-824F-813B898507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D2B3-7C14-4549-8ABA-6473CABB16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516E-372B-4073-B10A-D72D640361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1F34-A6B6-4558-A617-C66B218B77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87B5-FEB5-41FE-96B2-2B71C704D2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051E-2ABA-41CD-A667-460B7C8019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9C5A9-912C-4FA7-85F9-A74F7469F9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2746-A9CB-48FC-9A5C-A05C2B9DE5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BDE3-4014-4240-B9AB-6373357D5A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D1B5-7FBD-43EA-8634-781558E1FD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2527-023C-4152-91B5-3EDE87CB5904}"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03D1-42D2-42F6-9C0C-9D2AEC8E01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008D-55BC-4749-A873-09A21F4FBD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FB72-F6F5-4F36-87B9-B61C0D1D300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9D0A-E908-4A43-AD81-79D97E7B13D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456F-5D3E-47E4-B07A-51BB782B414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2974-62EF-4D6D-A749-25139622614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