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 id="285" r:id="rId69"/>
    <p:sldId id="286" r:id="rId70"/>
    <p:sldId id="287" r:id="rId71"/>
    <p:sldId id="288" r:id="rId72"/>
    <p:sldId id="289" r:id="rId73"/>
    <p:sldId id="290"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slide" Target="slides/slide30.xml"/><Relationship Id="rId70" Type="http://schemas.openxmlformats.org/officeDocument/2006/relationships/slide" Target="slides/slide31.xml"/><Relationship Id="rId71" Type="http://schemas.openxmlformats.org/officeDocument/2006/relationships/slide" Target="slides/slide32.xml"/><Relationship Id="rId72" Type="http://schemas.openxmlformats.org/officeDocument/2006/relationships/slide" Target="slides/slide33.xml"/><Relationship Id="rId73" Type="http://schemas.openxmlformats.org/officeDocument/2006/relationships/slide" Target="slides/slide34.xml"/><Relationship Id="rId74" Type="http://schemas.openxmlformats.org/officeDocument/2006/relationships/slide" Target="slides/slide35.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84"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85" name="PlaceHolder 2"/>
          <p:cNvSpPr>
            <a:spLocks noGrp="1"/>
          </p:cNvSpPr>
          <p:nvPr>
            <p:ph type="dt" idx="32"/>
          </p:nvPr>
        </p:nvSpPr>
        <p:spPr>
          <a:xfrm>
            <a:off x="388440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587"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8" name="PlaceHolder 5"/>
          <p:cNvSpPr>
            <a:spLocks noGrp="1"/>
          </p:cNvSpPr>
          <p:nvPr>
            <p:ph type="ftr" idx="33"/>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589" name="PlaceHolder 6"/>
          <p:cNvSpPr>
            <a:spLocks noGrp="1"/>
          </p:cNvSpPr>
          <p:nvPr>
            <p:ph type="sldNum" idx="34"/>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0165A-C2E0-47EB-9CEC-A55D35FAF9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September 2016.</a:t>
            </a:r>
            <a:endParaRPr b="0" lang="en-US" sz="1200" spc="-1" strike="noStrike">
              <a:solidFill>
                <a:srgbClr val="000000"/>
              </a:solidFill>
              <a:latin typeface="Calibri"/>
            </a:endParaRPr>
          </a:p>
        </p:txBody>
      </p:sp>
      <p:sp>
        <p:nvSpPr>
          <p:cNvPr id="1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89B6D-CA9B-43D3-A84B-4110E847DC8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0B72A-6D75-4AD9-9F54-19F6F308399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5EED7-2453-4892-881F-01C4A7A05D4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EC3B0-D6A1-4F15-BB65-A138AE5AC7F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44A8C-3C19-4934-A460-6E008B54ED4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C6163-1703-4C95-9B73-3C66E32C423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589E3-6DE9-4024-A37D-BF3F07709A8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B21A5-BD7A-458D-ADB9-AEF7C9B8EE7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F9820-4D68-4152-8A0F-11C1B1A5564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B99AA-198A-480B-9111-D92364B03F8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624BC-7D5E-4BFA-A199-A2B568B1BD4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Calibri"/>
            </a:endParaRPr>
          </a:p>
        </p:txBody>
      </p:sp>
      <p:sp>
        <p:nvSpPr>
          <p:cNvPr id="1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BB410-70A3-4F4A-B059-4FEFE085145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97CF8-FCCF-44D4-9BAE-74ADE2F3AB5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34E43-61A6-4435-8D7A-71A4A20CF91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A6F7A-6D65-4635-A2AC-D4A098693C4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06508-7D4E-4069-B1B0-BBD1628F255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3F3B1-56B5-425F-A020-DEEF043D0D6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F3D5E-58C5-483A-AADE-2A2C1CB2F18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1E739-0811-4CDC-9162-ADBDDA4ED6F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C1914-4848-46DA-852B-F734C49FE3C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1D9DB-23F6-4B17-8639-1AD3EF9A6C0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0ED54-697A-485B-BC4E-958B2C096B3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16DA7-8029-4F2E-8B09-3C0C54C312C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8486A-9548-4369-8D5A-FBE8F2C5BB8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708A7-C0FF-4C5C-A143-4247B639C14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D3458-CB40-44B9-95D2-2074D9EAD09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5C135-DA4A-4C0D-B884-30F80714809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E8264-9E3F-4F5C-830B-C72A8E89C9E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sldImg"/>
          </p:nvPr>
        </p:nvSpPr>
        <p:spPr>
          <a:xfrm>
            <a:off x="1143000" y="685800"/>
            <a:ext cx="4572000" cy="3429000"/>
          </a:xfrm>
          <a:prstGeom prst="rect">
            <a:avLst/>
          </a:prstGeom>
          <a:ln w="0">
            <a:noFill/>
          </a:ln>
        </p:spPr>
      </p:sp>
      <p:sp>
        <p:nvSpPr>
          <p:cNvPr id="1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AA380-D21E-4CF4-82CC-69F9F0C819C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DC1A8-785B-40AF-80C1-B6D73606779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08EBD-A29E-4F91-9848-EF277751147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A21D4-7DB9-4B20-AEA1-3D4183C678C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41386-3AB2-4967-8A02-4D5A78B0173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B89D9-C5C9-4C68-AE43-2A1831EC6C0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B6CFE-7683-49CA-9A3E-79DCD3D8B34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8A9FDF-1EA7-4882-A0B3-62D79D7312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79F22A73-6526-42CA-BBDA-BB9B00A9FD4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24022B3D-5FFC-4425-807C-48759D28F53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5B6B8F37-C1C2-402D-B808-8292D7CBD31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C0251C7B-8098-4222-B6B4-452EEA46035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97D46A1E-DCC4-434B-A741-744D3E9752A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86BBDD86-5AF7-4F82-B301-FC9A0ECB2CD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8681F463-5DD2-4741-83AF-47907C20C66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59807615-8375-4161-9589-C369BD9752E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66C24952-B36E-49D2-82E1-6A13FAA7D1F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E89D34A9-465A-422A-B799-7CF5C98C359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BAF590D-8B8B-4E71-B8EC-1A056424EE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1A34BB17-F67F-49C1-A65B-DF56560E50A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BB47D9B2-CE93-48FB-B271-A28341005A8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20E82881-6E14-4CB6-86DE-F23F6DCBA82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23CC621C-62AC-47D0-A57D-60CAFE8DB62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1414378F-93EC-4890-9B43-CD1DD4647C8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E70B5E94-76A5-4E2F-BBCC-DDB7D990877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ABDA616A-1FA5-48AB-B99C-9071378FD52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BD96981D-F846-4ADF-9099-CDE6E62F237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F6BA9423-DE36-4CA6-A087-1A7BBD434D8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EFC3114D-255F-4391-B06D-D0328A24E80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6D077248-FF64-4673-A55B-A218FF3AD6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35BEA64A-4A36-4868-AEF6-28AC001A7CC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009D5B19-39B7-4798-8826-B5FE66D01C9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0E35D5E-4A1C-4FFD-B65E-E9B97D42CAB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2807AB97-B28A-4BF3-9219-8118759DB75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9CAAB432-D19F-4ED6-B653-CCFFF2D7748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EF8D2E99-AFC9-4829-A63F-AEFE6FF7420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72E2E1D0-E7AB-4CDB-A8B0-AEB06241F33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1E1EEFDA-C1CF-4428-BDB6-235EC1F8BF7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22F5EC32-2DEF-4A13-AE3A-5F7CF2A1C20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91A06A74-6030-40E2-B011-3E80CD72254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4B8F676B-459D-4DBB-BB65-467882F11F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92C5533-C7DF-41E5-A423-2F9A24B96F0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7FC8824E-2D9B-41F3-BB8D-4C71D44DFF3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950E8E09-291A-4CCE-B9C0-F8FB7A890BA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C56E5316-4EA4-4050-8CD3-EE5CEA061F6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F6509A7-AA82-4AF1-9CB8-BD7900B26EE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5945423C-D7BD-4F25-AB52-D0284E68FC9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503B8988-7B7D-4109-864E-35671465D2E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F3626022-7FDE-4925-B256-D1689CF3783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871CC5B7-6B6C-4A6A-8E1F-2D7392AD6B3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5B5025B7-D10D-4AD5-94B6-7ED7B20EA3B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AE7452F6-8AA2-42CE-B037-F75361D4E8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E855EC9D-2845-45E5-BA45-FBFF2B03DE8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585B78B9-5176-4C04-8567-90A6B7C336C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A16B1D7F-1AC4-41BB-AFD3-1898DB15958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CF20EE27-854F-4525-AF12-4F104A655C8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422547E7-08F4-43B2-9D03-31D72147886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B7A44CE1-798B-442C-9D50-BB688176024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521131E2-EF97-494E-861F-2FFA01133584}"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D7952DE5-38D4-4D8E-8DC9-DE130C9478B9}"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06538C2E-8009-411A-A1D4-D8F0F862C177}"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40423B23-C3A7-46FC-BA27-453CC3C2F490}"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9F0DF076-D2CF-4665-922F-865544C431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4D1CE5B1-FE56-4204-8251-F5A24C3CBF48}"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071C13CD-1451-4522-8662-58FC28D312E7}"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5C6F9267-E136-4CFC-9598-C22F20EACA14}"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27AD099A-082B-41B1-8144-FC9BBE6912BF}"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88812C61-C400-4C8E-A181-23A552E153C0}"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22908587-149B-4CEF-BCE2-3F9782F44368}"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BFB61F11-D837-40D0-B6B7-52C163B9EB44}"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F5F63CA8-15B8-4463-965A-6A6BCC5B1ECF}"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2F78CD09-604B-469B-BE4C-14E111AC52BA}"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F2F8CC03-FDDF-4747-BC54-4A412A7630BE}"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981B7C9A-9E9C-42AE-A93F-06FC2541BD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712B58CB-1514-4334-88E3-BFB8F1959F5C}"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07C20A0D-E328-4AB1-8129-F5FBA70B0B56}"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C7B8DE9E-13FC-466A-B527-4606B2007F79}"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A5ABE99A-D854-4832-A8CB-C327CE73A170}"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CFB94D43-3A54-4230-9897-E4DC3DFBEAAF}"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51612399-B797-4DA5-8AA2-2C708EAFB86F}"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6CF3C98E-938D-4EE2-900D-DFB2B591A87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193F999B-8D3A-418B-A3E9-7DC72C4CAE0E}"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10F00F24-F5A4-4323-A915-76C321970678}"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CA94F603-B808-4140-8966-23AB5825FC0F}"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F49C9F17-3E63-48AA-8AE5-69B0394A64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D51C6B3E-0EA8-4542-8790-084F6361C8A2}"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F1F9BB1F-90E3-47E3-B684-6A22480A067C}"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0AFC6EF6-8A77-4534-BC63-77A8688E3DD6}"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D6C1FF6C-3DA4-4746-80F6-D8EE43C8F8EA}"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6E276BA8-CAEE-4AAF-BED0-3033D1462751}"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4E165297-6D0B-43F7-B72C-05D372AD0F55}"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E0204ECE-C73E-4253-8AB7-11332CED7A23}"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9FA004E4-4073-44E3-8F98-8812FD9E6A7A}"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C7A16754-A361-4025-BEB7-B6FB9C630BD6}"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6A851A53-C268-487B-9999-E4B3EC1F4198}"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621029E7-DFFD-4BD4-B12B-01985B1AF2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193ADDB1-EF90-4E25-8C42-B7F418BE0DD9}"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54421782-DB08-46F4-A85B-87BB005F7728}"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1C11FD50-0084-40E1-89DA-D9B4FE50BFF4}"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BD1B1487-D645-4187-8F0A-33C9CAB09A8F}"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4556514B-52EB-4B39-9E38-63B6BC310498}"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C07F4248-D31A-476B-B8FF-8FAB5BBD94A1}"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EAA654E1-A4FD-4D55-B733-B69FC81AA9AD}"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1077D0D4-CD20-4A74-B88F-694BD5CE8C53}"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977FD819-104F-4209-88B1-EBBBC525EE60}"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21FFB050-C7DE-4C6F-9E0B-9574E08C46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8D1F65F3-4C67-4029-9677-32C881E6DD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089D739E-5F08-4B79-BD15-5CA6011C5609}"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ECD16A14-4E5C-4684-90B2-276C48951D48}"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6DF01076-B4BE-4716-93BD-09FBEF1D59ED}"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07283B67-0EA3-4BCC-8217-27D720E74005}"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BB4B19CD-03BA-460C-A0D5-C9D9C2A111A2}"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E8E7F4C4-499D-4CDD-AE6F-1BF3DD3F4D98}"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3B78B690-664A-4739-B84E-ECF951710DE5}"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5465F0F0-8928-4B75-8DBC-3ACCC89A828B}"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4133E8E6-E291-4FEB-B05A-5E625EC4CCAE}"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E6ACC9E1-97B1-4F7A-B9A2-D5C7AB695D5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55E15A49-7DF5-446E-8745-733B03D82183}"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2451D278-B092-4F25-BA1C-BA8E0BB3B002}"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9AB1562D-04EC-41F2-B9C7-9B6EBD7CA9BC}"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9DC53190-DA2B-4477-B921-5443C830E574}"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71F407B6-50EB-4B15-97B1-591C93E59DC6}"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DABE6E26-6013-48B4-AC67-792B77F41EBC}"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3DE19245-9BC9-4BE0-9DD9-5A1369FBDEEE}"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F7F40313-622E-4B51-ADC5-E73D62E062A3}"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89A1C9E7-ED09-412A-84EB-3B00B7D9CDAA}"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621C8C35-D0A6-46C2-8251-204C85698A68}"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289542AA-8CEC-47E3-BF5B-1F3DC7125B3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23DEDA5A-1E06-4430-8E7F-D41532E96687}"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6E18AED5-8E69-4517-8821-7B6870ACE5FF}"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E40D2EA6-C1CD-4B32-9DE9-766A555F0295}"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BFDC21DC-7FC4-49F6-B712-4D173578A4E9}"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15A368D8-9282-493D-B907-AAD6A07D863B}"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B60EBA29-3D41-414E-97B1-F86D3EEBF4D9}"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16BB9C47-C11A-451F-A7EC-4E3C3D746256}"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28E0E812-EC98-48A1-BFA6-5E651C5C2C6B}"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A9785FF7-4AA8-45EA-85E0-7761651B68FE}"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67CE7085-6023-4987-8EA0-E4D0824C05F5}"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CE85AFB5-EBF4-4BE5-AA97-C9AC5426D8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1A900F83-7650-4945-9DA3-D4E79E59EE9F}"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6C838161-72CE-4691-880B-7A963D5824F2}"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E0A6456C-23F4-4233-91BC-CBFB0D1D475E}"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8DC1A9C8-5530-4CE2-9226-70F56D4AAA26}"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54421328-BB26-4B2D-9CAD-86E6833A0E97}"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BD5B967C-70DB-4E01-86A4-04A511BB1D84}"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49F813E8-BA70-47EE-9CEC-95C8B83588C6}"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D68793B6-36D8-43FC-863D-0032928DC01F}"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EDD45DF9-3598-43F1-9C7C-5435AA2B6AE3}"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4BA1D901-18FD-4F71-B43B-E21774DBD3C9}"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7B454F85-10F2-4041-9DE3-FE4A2185C93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90891D3-3A90-4AFF-BB48-88C37D368636}"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5E8BD941-2DC8-4ED3-9CE1-37AC8CBFDFFC}"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4496557B-BF02-4A2F-A793-F4796F96F037}"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5A792D28-153E-40FA-8A4E-AEEBF73F6F63}"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092273F9-2457-43A4-B8AA-61642B33B39E}"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D3BAAFDF-CAB6-41AA-B8BE-7B85ECBCA55B}"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844B24C1-AF41-4750-8A4C-C4626D69EDFE}"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F86A7B33-DC24-4362-A444-5179297EC9F4}"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25D4D709-FD89-4CBD-B9F0-D201260FC028}"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DDC4B786-CB38-4BF1-A21D-902B85B7465A}"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85BBE67A-D90B-4DBC-BD5C-89E3D2014EC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55195BEF-ECA5-4169-A2D6-283BCAC334F4}"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75B1A1E4-E7B4-40A9-B6BA-3234FC22DC1D}"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6E666944-12BF-47C9-A36F-2273EA5A0BE4}"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8F53FA8D-8AFE-42B0-8241-D426C4CE6AB9}"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8CDD230D-1D80-4077-BE97-7D9DCABF3E78}"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006BAC91-4D8D-4C86-8B74-7C372B2316EA}"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6A37CA9B-3EF1-4391-B6AD-FF41BB83712D}"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294C0B95-2E16-4BF4-BD6D-63559EE18FC8}"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887E8810-44F3-465C-893D-31DB1A41A033}"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9355C098-63E3-4F3B-A3B8-D3A28062215D}"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87E51B0B-8BEF-4682-AE09-59964D82315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3CED4BB7-5255-4FA2-A9B0-A97B4C5D210F}"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5A3E5D79-8847-47C2-BE5E-005736F43B58}"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B239E837-B07E-4014-A10E-FB59D7C94FCE}"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DFBA5DFF-1AAD-452D-9128-4E37FB41330E}"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8D59E4E9-EBC4-4A50-B457-4B567767AAF8}"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2DC4534E-5A97-40BE-AE3E-3E9DE3EF44FD}"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B0CE9299-7E76-4E7C-9735-C443109364B2}"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AA2D2897-EA5E-4F73-A7A9-BEFF0267DB6F}"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95BCD9FF-8127-47F7-977B-ED40602EBED1}"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9527D100-9517-4F8D-8D3C-889E52160749}"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9C3F8E23-F69E-4CC5-B055-7E995B13122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8081E8F5-0A24-4CA3-A903-7477E2AA682C}"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D61510F2-C4DD-4ADD-BA2E-9C9F15380F48}"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5A2F259F-1675-4DA6-ABE4-D3D5EDF728C2}"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7541A134-1DF6-4A71-BB66-4B9E71CE193E}"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EA1FA5F5-63C8-46DE-89FB-5B0CC6AC4BFF}"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258A6953-FCDC-4293-AA00-7171F84E61EA}"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FC37E59A-4682-43E6-B3AA-CD9D053E31A5}"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6523B540-BEA6-4668-A7DE-26187F74B655}"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21A7D2E8-337A-4808-AEB4-65EF295DC10C}"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AE896E5E-1D23-42E4-A3AA-3C23094174BB}"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779A0224-5792-4B5A-965A-560BA8BDA99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86792579-7EC6-423B-9FA2-2BFFF2F5EE75}"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F80568F0-9AFF-4278-AB36-ADD6EE00ADE9}"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645B7BFF-EA3D-426A-BA99-12567737E310}"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D62364AC-67F8-4282-A736-BA4A4EAA2630}"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1"/>
          </p:nvPr>
        </p:nvSpPr>
        <p:spPr/>
        <p:txBody>
          <a:bodyPr/>
          <a:p>
            <a:fld id="{1C43D8A2-8480-4ADB-A974-8FCC8FC7E6D3}"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1"/>
          </p:nvPr>
        </p:nvSpPr>
        <p:spPr/>
        <p:txBody>
          <a:bodyPr/>
          <a:p>
            <a:fld id="{411640B7-EC51-4C3D-BB80-A9730D97AE80}"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5EE7BCA5-CD53-4198-AF7F-C458CDD7D5AA}"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F45D0C22-EB96-4AFD-9C19-9D6B64E0D874}"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5004A11B-898C-4A9D-AA06-A928732BFB37}"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F4E979F0-710D-4E75-A042-08D24B5A261F}"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1"/>
          </p:nvPr>
        </p:nvSpPr>
        <p:spPr/>
        <p:txBody>
          <a:bodyPr/>
          <a:p>
            <a:fld id="{C554248C-0953-432B-8284-615BDDC4CC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F25982D1-2538-4362-B6AE-CF67175B6F1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9C644B2D-1C6B-4253-B213-912DFE60B1F3}"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1"/>
          </p:nvPr>
        </p:nvSpPr>
        <p:spPr/>
        <p:txBody>
          <a:bodyPr/>
          <a:p>
            <a:fld id="{5EA636B3-A58F-426E-BAE8-F6249942092B}"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5A023640-291B-4004-9F0C-2B7586E60CA1}"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B27284AC-7ED6-4A0E-BB40-1818EA02FFBB}"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479050A7-5D1E-4A6A-8E34-188BEA477E81}"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CFAA4367-4EB5-456E-848E-1EC9445962DA}"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2"/>
          </p:nvPr>
        </p:nvSpPr>
        <p:spPr/>
        <p:txBody>
          <a:bodyPr/>
          <a:p>
            <a:fld id="{77E313BE-E836-4790-9D2C-34A48E37BC4B}"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2"/>
          </p:nvPr>
        </p:nvSpPr>
        <p:spPr/>
        <p:txBody>
          <a:bodyPr/>
          <a:p>
            <a:fld id="{B5FDE210-9D4F-4CAA-9C38-4E5F8A797516}"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EE4993DD-0B5D-4579-873D-F305F0B79B5C}"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F0BEE5FA-AECB-4F96-83C6-5F83B7A01CE0}"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1644C5DE-5744-4005-8C18-8008C9A36D0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29A46097-B3A4-45D0-93E8-1E698E3A4957}"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1294AE12-38A5-4748-B453-91799984F61B}"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2"/>
          </p:nvPr>
        </p:nvSpPr>
        <p:spPr/>
        <p:txBody>
          <a:bodyPr/>
          <a:p>
            <a:fld id="{C6598FB6-808E-4926-ADE1-2E14F7C81B01}"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2"/>
          </p:nvPr>
        </p:nvSpPr>
        <p:spPr/>
        <p:txBody>
          <a:bodyPr/>
          <a:p>
            <a:fld id="{34D109A6-CBCF-422E-98B8-292AE9EA6DA2}"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C493FC11-CC3A-4F0B-96B0-BB7CB2FFF2CD}"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DBA22734-6DA9-4A2A-8513-46AE8A1D80BE}"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29EFEAD8-1FBE-4AA5-871D-D7BBFBFBE1E1}"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9CE097EA-346C-439C-A431-66183323DC7E}"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1956C28F-905A-45F5-A464-797BA15F349C}"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3"/>
          </p:nvPr>
        </p:nvSpPr>
        <p:spPr/>
        <p:txBody>
          <a:bodyPr/>
          <a:p>
            <a:fld id="{52758699-9524-4717-8F79-A5E45952AA1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6BD50222-561B-44E0-84C6-3583DEF6089E}"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3"/>
          </p:nvPr>
        </p:nvSpPr>
        <p:spPr/>
        <p:txBody>
          <a:bodyPr/>
          <a:p>
            <a:fld id="{DFC63622-DDBE-472C-8CAD-CE7FA647F19F}"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045EF546-3298-4059-A698-3C007B4F38D0}"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3E1CBF1B-4A8E-4BF9-BD8D-366464894D77}"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95CBB5CC-1A7A-456A-86F0-F0AB2029B018}"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CC88FDB5-FB8C-46D1-9D86-417B2851E6EF}"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3"/>
          </p:nvPr>
        </p:nvSpPr>
        <p:spPr/>
        <p:txBody>
          <a:bodyPr/>
          <a:p>
            <a:fld id="{CB746FE3-3604-4CAB-9F18-DB158D285F0B}"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3"/>
          </p:nvPr>
        </p:nvSpPr>
        <p:spPr/>
        <p:txBody>
          <a:bodyPr/>
          <a:p>
            <a:fld id="{07C26C84-54E5-4085-934C-C5035512B648}"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4121A0C6-2E86-4BA5-94E5-A6E3F9B62465}"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5D5581E8-6C30-4238-A67B-0852A304C64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89FE639C-A1A1-4B40-B778-510CC572407F}"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DA7CFF67-3981-4916-97FC-9DC5A4E20186}"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1E8AA3F3-1189-44D5-85EC-357091A25780}"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A021A09E-4C55-4834-AC31-F510FD7543B7}"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4"/>
          </p:nvPr>
        </p:nvSpPr>
        <p:spPr/>
        <p:txBody>
          <a:bodyPr/>
          <a:p>
            <a:fld id="{C15CCECD-092F-4EAB-8346-48E60ACCE5DC}"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4"/>
          </p:nvPr>
        </p:nvSpPr>
        <p:spPr/>
        <p:txBody>
          <a:bodyPr/>
          <a:p>
            <a:fld id="{E932556F-E79D-4D0E-B57D-7E4CDEA13F8C}"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FED9A4EE-9317-4702-8F30-36313A294997}"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A8255312-89AF-4490-8435-43B9DCCDC9B2}"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313AD9D6-E541-4425-9224-06CB68952A37}"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2D359B7C-2870-4E51-88AC-18937AC748DF}"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4"/>
          </p:nvPr>
        </p:nvSpPr>
        <p:spPr/>
        <p:txBody>
          <a:bodyPr/>
          <a:p>
            <a:fld id="{2708B2E1-55CD-447E-8224-4D857A98C36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92E33770-A5DD-47DE-BF09-84BF8B1258F5}"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4"/>
          </p:nvPr>
        </p:nvSpPr>
        <p:spPr/>
        <p:txBody>
          <a:bodyPr/>
          <a:p>
            <a:fld id="{A1C285EF-C2AF-4796-B539-9A55691A8844}"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2C38A8B2-7D91-4197-9EFE-FCB801152328}"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B7C763A8-C908-487B-9143-E6752743FD88}"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F55D7023-1E3C-450D-88FC-6F063321046D}"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848F4774-DC75-4238-A1A3-0B17304A3B2E}"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5"/>
          </p:nvPr>
        </p:nvSpPr>
        <p:spPr/>
        <p:txBody>
          <a:bodyPr/>
          <a:p>
            <a:fld id="{A98EDCB5-F3EA-47B7-9DF4-342B2F4C0F69}"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5"/>
          </p:nvPr>
        </p:nvSpPr>
        <p:spPr/>
        <p:txBody>
          <a:bodyPr/>
          <a:p>
            <a:fld id="{0290792B-CA69-4FE0-9864-77F2981F9C41}"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2D89B2D5-A1B6-46EA-9D5E-291D3A0357A3}"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063E14D0-F65E-4067-8FEA-CD34D7A58686}"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F4C08314-F176-4EEC-AA0B-935EBF68E66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3077F33D-A7F7-4E05-92DF-908929E38689}"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5"/>
          </p:nvPr>
        </p:nvSpPr>
        <p:spPr/>
        <p:txBody>
          <a:bodyPr/>
          <a:p>
            <a:fld id="{5F1D5E3F-F0B8-47D6-8F30-3920DD4CD1FF}"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5"/>
          </p:nvPr>
        </p:nvSpPr>
        <p:spPr/>
        <p:txBody>
          <a:bodyPr/>
          <a:p>
            <a:fld id="{BE80A6C2-6520-457C-AFB0-E67862E244B2}"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0546BC5A-A7F8-4F8F-96DF-4304E94D5261}"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A85A482A-4987-4DB2-85CA-A75B7A28A2D7}"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C6E8D1EE-4A04-49F7-AD6E-827271D32D48}"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E61B61F7-D3F4-433F-9531-3FC8498883EB}"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6"/>
          </p:nvPr>
        </p:nvSpPr>
        <p:spPr/>
        <p:txBody>
          <a:bodyPr/>
          <a:p>
            <a:fld id="{98C6EA23-0C3E-46A9-80AE-24B34D9A77CA}"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6"/>
          </p:nvPr>
        </p:nvSpPr>
        <p:spPr/>
        <p:txBody>
          <a:bodyPr/>
          <a:p>
            <a:fld id="{6C1EFE29-EA63-4BE6-96B9-9F31ABACE995}"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0B14FBF9-1207-4BE9-A21E-0BC2995B04F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304050EF-FC10-4E3C-89D1-802C2F71CF36}"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78F8A273-5E2A-4027-9FB7-6109C1FEF841}"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8924C0AF-63EA-487B-9F5C-CB61BD235845}"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6"/>
          </p:nvPr>
        </p:nvSpPr>
        <p:spPr/>
        <p:txBody>
          <a:bodyPr/>
          <a:p>
            <a:fld id="{863EFC3D-3399-4601-8B95-8E156FD60FF1}"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6"/>
          </p:nvPr>
        </p:nvSpPr>
        <p:spPr/>
        <p:txBody>
          <a:bodyPr/>
          <a:p>
            <a:fld id="{6612C38B-B4D4-4497-A0F6-0560EC6A5925}"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A38CAA5B-44CC-45E7-BDDA-123A01ACAF33}"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3835D8FE-C3F7-4CBC-AFB8-518E2AC9450B}"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40B1B34F-3AB0-404B-8875-1177BD08E726}"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032596F5-5B98-405B-ACEA-E5400140A8EA}"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7"/>
          </p:nvPr>
        </p:nvSpPr>
        <p:spPr/>
        <p:txBody>
          <a:bodyPr/>
          <a:p>
            <a:fld id="{D80620A6-09C5-4965-809E-6F786A11F43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7"/>
          </p:nvPr>
        </p:nvSpPr>
        <p:spPr/>
        <p:txBody>
          <a:bodyPr/>
          <a:p>
            <a:fld id="{0055F2FB-7FBC-450D-A440-C9F4EAB5355C}"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6337BFFB-D0B6-4319-AA6F-D2E2CB694A00}"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77E40AFC-794B-437D-B333-6621EB9702B7}"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FF9B08CC-5E5D-43B2-9665-A8E539D0B66F}"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46F1E468-660E-4625-B9E3-06E919954653}"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7"/>
          </p:nvPr>
        </p:nvSpPr>
        <p:spPr/>
        <p:txBody>
          <a:bodyPr/>
          <a:p>
            <a:fld id="{71A28230-DFC1-431A-91C1-A3FC59C24E4A}"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7"/>
          </p:nvPr>
        </p:nvSpPr>
        <p:spPr/>
        <p:txBody>
          <a:bodyPr/>
          <a:p>
            <a:fld id="{EA65E4C0-84F3-4556-8012-4E85E1F22B22}"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97848A90-257F-4CB5-ADFE-C4002DE4B443}"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79B944AA-E305-40A0-B543-FF171E012E1F}"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DCA5C349-5479-4904-A243-AA51B09E75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6F5CBFE3-429E-4B04-848A-3D22AC30E64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2205DC8D-164B-4406-B25D-16EB24EFA5C3}"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8"/>
          </p:nvPr>
        </p:nvSpPr>
        <p:spPr/>
        <p:txBody>
          <a:bodyPr/>
          <a:p>
            <a:fld id="{0C8B2262-01B2-4335-9E48-D2362D9632C6}"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8"/>
          </p:nvPr>
        </p:nvSpPr>
        <p:spPr/>
        <p:txBody>
          <a:bodyPr/>
          <a:p>
            <a:fld id="{4E89ADA0-6184-4321-96EF-4DA6DA18898C}"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A42F56CB-4C05-4A3A-A3B8-AEBF7AF1455A}"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34085023-CDB8-476F-B4B3-FD0D591EE05C}"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E349DF31-D8DF-4181-88F7-DAC3F778811A}"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B72A5358-3FEE-441A-BE5E-A45D1F2078F0}"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8"/>
          </p:nvPr>
        </p:nvSpPr>
        <p:spPr/>
        <p:txBody>
          <a:bodyPr/>
          <a:p>
            <a:fld id="{6DA09E7C-07B6-4D5D-8A17-6754E55DAB7E}"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8"/>
          </p:nvPr>
        </p:nvSpPr>
        <p:spPr/>
        <p:txBody>
          <a:bodyPr/>
          <a:p>
            <a:fld id="{E862E057-98ED-4240-9238-507408D83501}"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B2032741-8E5A-41FF-BB4D-8CB2DA93751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F7ED7CD8-0C3A-481A-943F-A6638145FE48}"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F86BE2C7-9645-4723-8D72-9A04441A1949}"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E9C6B88A-9FF8-4126-A56B-5C6004A151E1}"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9"/>
          </p:nvPr>
        </p:nvSpPr>
        <p:spPr/>
        <p:txBody>
          <a:bodyPr/>
          <a:p>
            <a:fld id="{28968316-6526-4349-B195-EBB61491CF44}"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9"/>
          </p:nvPr>
        </p:nvSpPr>
        <p:spPr/>
        <p:txBody>
          <a:bodyPr/>
          <a:p>
            <a:fld id="{EA463779-7F5D-4C50-BCF6-08A43C4F44C1}"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55F8F05A-96A8-49F3-A96C-AD245BC9593F}"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EBB5C60F-4447-4F25-B324-3414A78B7EC1}"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008AAD6D-3E58-4EF0-8E8E-0D51C24DB5F7}"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E65F6FE2-0353-42D8-88B1-EB0136CE120E}"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9"/>
          </p:nvPr>
        </p:nvSpPr>
        <p:spPr/>
        <p:txBody>
          <a:bodyPr/>
          <a:p>
            <a:fld id="{61521C46-52DE-42E0-9E9D-3C8D3567456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9"/>
          </p:nvPr>
        </p:nvSpPr>
        <p:spPr/>
        <p:txBody>
          <a:bodyPr/>
          <a:p>
            <a:fld id="{077690E5-9884-4BA9-B0AF-DB42E3F5349A}"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AA01E00E-0B51-4BD6-8B40-3DEE816072E7}"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490D78F1-C899-493B-B51C-6A9565DB79D3}"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B1A2A4C2-E2F6-4F57-9DE0-561404274FB3}"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18335CC5-3693-4CA2-A3E8-EA668FC53E59}"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0"/>
          </p:nvPr>
        </p:nvSpPr>
        <p:spPr/>
        <p:txBody>
          <a:bodyPr/>
          <a:p>
            <a:fld id="{03AF9950-099B-4FC3-B90A-71B0A66CCA16}"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0"/>
          </p:nvPr>
        </p:nvSpPr>
        <p:spPr/>
        <p:txBody>
          <a:bodyPr/>
          <a:p>
            <a:fld id="{48107505-3386-4E27-B48C-A5202AB0E7F8}"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1B134EB0-2FD0-49B3-8016-FC516F616A4F}"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9EDFFF03-B179-4A94-A675-84DFFCC82967}"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43C471BA-00BB-48BC-B3B0-81372CE726A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07089061-EA8E-4950-A864-2BED2C29FE2B}"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0"/>
          </p:nvPr>
        </p:nvSpPr>
        <p:spPr/>
        <p:txBody>
          <a:bodyPr/>
          <a:p>
            <a:fld id="{28C2E912-5D9F-4658-A880-4934EFCFA857}"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0"/>
          </p:nvPr>
        </p:nvSpPr>
        <p:spPr/>
        <p:txBody>
          <a:bodyPr/>
          <a:p>
            <a:fld id="{E375CEA7-CB3B-4497-9C7D-7A27F46E6313}"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E734D17F-CA6E-4D4E-AB2B-C7936F21D9E3}"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6A09F7AB-FC8D-42A3-9393-842D65E827D4}"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99F51D9E-64C0-4B3B-81E8-3793AC1FB7F2}"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0FF1CB0D-E02C-406D-8587-2E50A5ADFA46}"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1"/>
          </p:nvPr>
        </p:nvSpPr>
        <p:spPr/>
        <p:txBody>
          <a:bodyPr/>
          <a:p>
            <a:fld id="{280C439A-98FD-4F64-85A3-EE294ED7EFF3}"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1"/>
          </p:nvPr>
        </p:nvSpPr>
        <p:spPr/>
        <p:txBody>
          <a:bodyPr/>
          <a:p>
            <a:fld id="{E95B1D27-D3A2-4952-92EF-81BB5A3A2C24}"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619F3886-98FB-48F0-A9CF-EE0AD7BB050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A722F33B-FEF3-4DD4-BE09-14F9A5B34C1E}"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FEABBD0B-1438-43D8-ADE7-68B72D501AAA}"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980963EE-D970-4CED-8C60-4859BA68213B}"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1"/>
          </p:nvPr>
        </p:nvSpPr>
        <p:spPr/>
        <p:txBody>
          <a:bodyPr/>
          <a:p>
            <a:fld id="{1E4AE772-D6B1-4CFB-85D5-74D9ACC02092}"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1"/>
          </p:nvPr>
        </p:nvSpPr>
        <p:spPr/>
        <p:txBody>
          <a:bodyPr/>
          <a:p>
            <a:fld id="{465ADDC1-29A0-43F3-A2B8-D9E1D982E6E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6D53E01-C746-4663-96F0-9FA4CBDCE6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7A1B2FC9-1EC4-46F7-92A2-DFFB937E4BC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08E3F960-E51A-46FA-A375-EC5A7F97C2E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977EFA00-F94B-4C5A-9C30-308645B0703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C0D4291F-6A4D-42E5-90C9-2AFDF1376F7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F452C877-03E4-4D78-9C06-06DB0102930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C42FA19A-83F2-4115-B9A6-E7740842093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BADEB8BC-2E9C-4339-A19B-583834AF57F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43C13B3D-417F-4D6C-9D26-6957DCBB4B0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FF6E8F3D-7C48-420D-8DAC-9B1464F5083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0011C086-BA20-41DF-9708-C3C2C7C9F2A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BE00AEE8-2B1E-4B41-9288-4443AD4A99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186CA12F-D668-4E2C-8622-030582390E9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4B6D3FAA-82C1-4DF8-B56C-20A866F03AC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9AB4432-835B-485F-BA43-3FDCD437C80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2CFCC19C-D15F-47B3-8D43-E4AD82E6BDA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771C38CF-A991-4182-AF88-9604E4ED3C8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856BCCFC-A669-4D42-8E67-1B52642276A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E8886797-CFF0-489D-8C0E-6A1DDFB03EB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3F562361-C507-412A-A419-B384917A957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F5B787F9-7CCD-4E82-91D2-263C30965F1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5207CDF0-CC7A-48B7-A00E-F9215A86780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BE88C5FF-2492-4A7B-92B9-7D0A768988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251E0EF9-27EE-49E8-8FDD-CD7BA7D5349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D75DB164-1D5C-4360-909D-B1DBFC099AD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CBB632E6-9E65-4B11-8527-664C4E23474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813E708B-A6DF-4593-AE58-8D986651B6C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A3D80578-0E18-4B1F-835A-BE1D84B354A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F836E79-871A-4BEB-A6BD-DCC324D9784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883983CE-E12C-42A6-B70F-7A85EC535A1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92575D3E-D350-4DB9-8CC8-3AA499F7EC5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B6E4FBF5-A267-406F-96A1-61C79F794FB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F3980C9A-47D0-4FFF-AF84-D854347754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46C27B60-4C0E-4B91-BA04-34100AC3418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56AF336F-BCD6-4C86-A125-F4F6C42981C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53E79362-A234-4F91-B952-145A41846CA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0BC6927E-4057-4CDA-BF68-C29C00E5808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0DCAD023-CAEB-4BCE-822B-D0BEE030825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0211C61F-ED05-4FD5-A010-99BEEFC7E7D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46B4A4B9-FA6D-4558-A48D-62DE7CFCB30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4B5BCA0E-5F06-4F1B-801C-0548E9A9873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0CADB59-BF17-42A5-BABF-C63CEF0C683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C10553A4-0E51-48E1-9C54-6D9FCB6B176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32ED0E5C-CEB5-4B63-9A79-059026324A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12330-7094-47CC-8F24-0EE14C995F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4"/>
          <p:cNvGrpSpPr/>
          <p:nvPr/>
        </p:nvGrpSpPr>
        <p:grpSpPr>
          <a:xfrm>
            <a:off x="771480" y="6550200"/>
            <a:ext cx="8372520" cy="320400"/>
            <a:chOff x="771480" y="6550200"/>
            <a:chExt cx="8372520" cy="320400"/>
          </a:xfrm>
        </p:grpSpPr>
        <p:sp>
          <p:nvSpPr>
            <p:cNvPr id="37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2"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1E341-232D-40F4-9B53-4378A08BD8F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9" name="Group 4"/>
          <p:cNvGrpSpPr/>
          <p:nvPr/>
        </p:nvGrpSpPr>
        <p:grpSpPr>
          <a:xfrm>
            <a:off x="771480" y="6550200"/>
            <a:ext cx="8372520" cy="320400"/>
            <a:chOff x="771480" y="6550200"/>
            <a:chExt cx="8372520" cy="320400"/>
          </a:xfrm>
        </p:grpSpPr>
        <p:sp>
          <p:nvSpPr>
            <p:cNvPr id="42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25"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90728-2480-4301-95E9-7DF3B3D62D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2" name="Group 4"/>
          <p:cNvGrpSpPr/>
          <p:nvPr/>
        </p:nvGrpSpPr>
        <p:grpSpPr>
          <a:xfrm>
            <a:off x="771480" y="6550200"/>
            <a:ext cx="8372520" cy="320400"/>
            <a:chOff x="771480" y="6550200"/>
            <a:chExt cx="8372520" cy="320400"/>
          </a:xfrm>
        </p:grpSpPr>
        <p:sp>
          <p:nvSpPr>
            <p:cNvPr id="46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68"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76660-5B45-405C-B675-13587AB50F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5" name="Group 4"/>
          <p:cNvGrpSpPr/>
          <p:nvPr/>
        </p:nvGrpSpPr>
        <p:grpSpPr>
          <a:xfrm>
            <a:off x="771480" y="6550200"/>
            <a:ext cx="8372520" cy="320400"/>
            <a:chOff x="771480" y="6550200"/>
            <a:chExt cx="8372520" cy="320400"/>
          </a:xfrm>
        </p:grpSpPr>
        <p:sp>
          <p:nvSpPr>
            <p:cNvPr id="50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11"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FC968-020C-4C39-86F4-66E1830991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4"/>
          <p:cNvGrpSpPr/>
          <p:nvPr/>
        </p:nvGrpSpPr>
        <p:grpSpPr>
          <a:xfrm>
            <a:off x="771480" y="6550200"/>
            <a:ext cx="8372520" cy="320400"/>
            <a:chOff x="771480" y="6550200"/>
            <a:chExt cx="8372520" cy="320400"/>
          </a:xfrm>
        </p:grpSpPr>
        <p:sp>
          <p:nvSpPr>
            <p:cNvPr id="54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5"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15246-1A2C-4691-8464-8D4FB5147E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Group 4"/>
          <p:cNvGrpSpPr/>
          <p:nvPr/>
        </p:nvGrpSpPr>
        <p:grpSpPr>
          <a:xfrm>
            <a:off x="771480" y="6550200"/>
            <a:ext cx="8372520" cy="320400"/>
            <a:chOff x="771480" y="6550200"/>
            <a:chExt cx="8372520" cy="320400"/>
          </a:xfrm>
        </p:grpSpPr>
        <p:sp>
          <p:nvSpPr>
            <p:cNvPr id="59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98"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B852B-4EE1-4CBA-B1C9-294BE033E9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4" name="Group 4"/>
          <p:cNvGrpSpPr/>
          <p:nvPr/>
        </p:nvGrpSpPr>
        <p:grpSpPr>
          <a:xfrm>
            <a:off x="771480" y="6550200"/>
            <a:ext cx="8372520" cy="320400"/>
            <a:chOff x="771480" y="6550200"/>
            <a:chExt cx="8372520" cy="320400"/>
          </a:xfrm>
        </p:grpSpPr>
        <p:sp>
          <p:nvSpPr>
            <p:cNvPr id="675"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6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81" name="PlaceHolder 3"/>
          <p:cNvSpPr>
            <a:spLocks noGrp="1"/>
          </p:cNvSpPr>
          <p:nvPr>
            <p:ph type="sldNum" idx="1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55A15-BA7D-4C4D-9DC7-B70652DBCA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45792-8625-4B75-BEB2-4AF1D05B2829}"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719" name="Group 6"/>
          <p:cNvGrpSpPr/>
          <p:nvPr/>
        </p:nvGrpSpPr>
        <p:grpSpPr>
          <a:xfrm>
            <a:off x="771480" y="6550200"/>
            <a:ext cx="8372520" cy="320400"/>
            <a:chOff x="771480" y="6550200"/>
            <a:chExt cx="8372520" cy="320400"/>
          </a:xfrm>
        </p:grpSpPr>
        <p:sp>
          <p:nvSpPr>
            <p:cNvPr id="720"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1" name="Group 4"/>
          <p:cNvGrpSpPr/>
          <p:nvPr/>
        </p:nvGrpSpPr>
        <p:grpSpPr>
          <a:xfrm>
            <a:off x="771480" y="6541560"/>
            <a:ext cx="8372520" cy="321120"/>
            <a:chOff x="771480" y="6541560"/>
            <a:chExt cx="8372520" cy="321120"/>
          </a:xfrm>
        </p:grpSpPr>
        <p:sp>
          <p:nvSpPr>
            <p:cNvPr id="762"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6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36703-F032-410E-B65A-CE2B62CE1A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1" name="PlaceHolder 3"/>
          <p:cNvSpPr>
            <a:spLocks noGrp="1"/>
          </p:cNvSpPr>
          <p:nvPr>
            <p:ph type="sldNum" idx="2"/>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8D416-AB33-4C3A-933E-EC553947AC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5" name="Group 4"/>
          <p:cNvGrpSpPr/>
          <p:nvPr/>
        </p:nvGrpSpPr>
        <p:grpSpPr>
          <a:xfrm>
            <a:off x="771480" y="6541560"/>
            <a:ext cx="8372520" cy="321120"/>
            <a:chOff x="771480" y="6541560"/>
            <a:chExt cx="8372520" cy="321120"/>
          </a:xfrm>
        </p:grpSpPr>
        <p:sp>
          <p:nvSpPr>
            <p:cNvPr id="806"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12"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8EFB3-6624-4462-BC77-61D6A4DC07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9" name="Group 4"/>
          <p:cNvGrpSpPr/>
          <p:nvPr/>
        </p:nvGrpSpPr>
        <p:grpSpPr>
          <a:xfrm>
            <a:off x="771480" y="6550200"/>
            <a:ext cx="8372520" cy="320400"/>
            <a:chOff x="771480" y="6550200"/>
            <a:chExt cx="8372520" cy="320400"/>
          </a:xfrm>
        </p:grpSpPr>
        <p:sp>
          <p:nvSpPr>
            <p:cNvPr id="85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6"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A1F07-46CF-408E-9CB5-E138E67A9A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3" name="Group 4"/>
          <p:cNvGrpSpPr/>
          <p:nvPr/>
        </p:nvGrpSpPr>
        <p:grpSpPr>
          <a:xfrm>
            <a:off x="771480" y="6550200"/>
            <a:ext cx="8372520" cy="320400"/>
            <a:chOff x="771480" y="6550200"/>
            <a:chExt cx="8372520" cy="320400"/>
          </a:xfrm>
        </p:grpSpPr>
        <p:sp>
          <p:nvSpPr>
            <p:cNvPr id="89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99"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D9BF5-DBF1-492F-A982-842220A4909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4"/>
          <p:cNvGrpSpPr/>
          <p:nvPr/>
        </p:nvGrpSpPr>
        <p:grpSpPr>
          <a:xfrm>
            <a:off x="771480" y="6550200"/>
            <a:ext cx="8372520" cy="320400"/>
            <a:chOff x="771480" y="6550200"/>
            <a:chExt cx="8372520" cy="320400"/>
          </a:xfrm>
        </p:grpSpPr>
        <p:sp>
          <p:nvSpPr>
            <p:cNvPr id="93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42"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5F9A3-8E26-4875-AAAD-40AAB85CE40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9" name="Group 4"/>
          <p:cNvGrpSpPr/>
          <p:nvPr/>
        </p:nvGrpSpPr>
        <p:grpSpPr>
          <a:xfrm>
            <a:off x="771480" y="6550200"/>
            <a:ext cx="8372520" cy="320400"/>
            <a:chOff x="771480" y="6550200"/>
            <a:chExt cx="8372520" cy="320400"/>
          </a:xfrm>
        </p:grpSpPr>
        <p:sp>
          <p:nvSpPr>
            <p:cNvPr id="98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5"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DD57C-D71F-4D14-B10C-F89FD5A41CD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2" name="Group 4"/>
          <p:cNvGrpSpPr/>
          <p:nvPr/>
        </p:nvGrpSpPr>
        <p:grpSpPr>
          <a:xfrm>
            <a:off x="771480" y="6550200"/>
            <a:ext cx="8372520" cy="320400"/>
            <a:chOff x="771480" y="6550200"/>
            <a:chExt cx="8372520" cy="320400"/>
          </a:xfrm>
        </p:grpSpPr>
        <p:sp>
          <p:nvSpPr>
            <p:cNvPr id="102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29" name="PlaceHolder 3"/>
          <p:cNvSpPr>
            <a:spLocks noGrp="1"/>
          </p:cNvSpPr>
          <p:nvPr>
            <p:ph type="sldNum" idx="2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1BB01-42D0-4A69-9A38-CAA0392156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Group 4"/>
          <p:cNvGrpSpPr/>
          <p:nvPr/>
        </p:nvGrpSpPr>
        <p:grpSpPr>
          <a:xfrm>
            <a:off x="771480" y="6550200"/>
            <a:ext cx="8372520" cy="320400"/>
            <a:chOff x="771480" y="6550200"/>
            <a:chExt cx="8372520" cy="320400"/>
          </a:xfrm>
        </p:grpSpPr>
        <p:sp>
          <p:nvSpPr>
            <p:cNvPr id="106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72" name="PlaceHolder 3"/>
          <p:cNvSpPr>
            <a:spLocks noGrp="1"/>
          </p:cNvSpPr>
          <p:nvPr>
            <p:ph type="sldNum" idx="2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B2B64-5D74-4E41-B8B2-C9BB410292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8" name="Group 4"/>
          <p:cNvGrpSpPr/>
          <p:nvPr/>
        </p:nvGrpSpPr>
        <p:grpSpPr>
          <a:xfrm>
            <a:off x="771480" y="6550200"/>
            <a:ext cx="8372520" cy="320400"/>
            <a:chOff x="771480" y="6550200"/>
            <a:chExt cx="8372520" cy="320400"/>
          </a:xfrm>
        </p:grpSpPr>
        <p:sp>
          <p:nvSpPr>
            <p:cNvPr id="114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155" name="PlaceHolder 3"/>
          <p:cNvSpPr>
            <a:spLocks noGrp="1"/>
          </p:cNvSpPr>
          <p:nvPr>
            <p:ph type="sldNum" idx="2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4DBAF-FF75-451F-8205-C5DBCC5207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5430A-B48B-4A91-9037-62BFCA73FD25}"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193" name="Group 6"/>
          <p:cNvGrpSpPr/>
          <p:nvPr/>
        </p:nvGrpSpPr>
        <p:grpSpPr>
          <a:xfrm>
            <a:off x="771480" y="6550200"/>
            <a:ext cx="8372520" cy="320400"/>
            <a:chOff x="771480" y="6550200"/>
            <a:chExt cx="8372520" cy="320400"/>
          </a:xfrm>
        </p:grpSpPr>
        <p:sp>
          <p:nvSpPr>
            <p:cNvPr id="119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0" name="PlaceHolder 3"/>
          <p:cNvSpPr>
            <a:spLocks noGrp="1"/>
          </p:cNvSpPr>
          <p:nvPr>
            <p:ph type="sldNum" idx="3"/>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675B8-1B4B-41CD-A79E-3F94E1F082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5" name="Group 4"/>
          <p:cNvGrpSpPr/>
          <p:nvPr/>
        </p:nvGrpSpPr>
        <p:grpSpPr>
          <a:xfrm>
            <a:off x="771480" y="6541560"/>
            <a:ext cx="8372520" cy="321120"/>
            <a:chOff x="771480" y="6541560"/>
            <a:chExt cx="8372520" cy="321120"/>
          </a:xfrm>
        </p:grpSpPr>
        <p:sp>
          <p:nvSpPr>
            <p:cNvPr id="123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42" name="PlaceHolder 3"/>
          <p:cNvSpPr>
            <a:spLocks noGrp="1"/>
          </p:cNvSpPr>
          <p:nvPr>
            <p:ph type="sldNum" idx="2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29A70-6C97-4683-82F1-BAAE5E232D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9" name="Group 4"/>
          <p:cNvGrpSpPr/>
          <p:nvPr/>
        </p:nvGrpSpPr>
        <p:grpSpPr>
          <a:xfrm>
            <a:off x="771480" y="6541560"/>
            <a:ext cx="8372520" cy="321120"/>
            <a:chOff x="771480" y="6541560"/>
            <a:chExt cx="8372520" cy="321120"/>
          </a:xfrm>
        </p:grpSpPr>
        <p:sp>
          <p:nvSpPr>
            <p:cNvPr id="128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86" name="PlaceHolder 3"/>
          <p:cNvSpPr>
            <a:spLocks noGrp="1"/>
          </p:cNvSpPr>
          <p:nvPr>
            <p:ph type="sldNum" idx="2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19428-0D34-4716-9BA5-BBEC82659B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3" name="Group 4"/>
          <p:cNvGrpSpPr/>
          <p:nvPr/>
        </p:nvGrpSpPr>
        <p:grpSpPr>
          <a:xfrm>
            <a:off x="771480" y="6550200"/>
            <a:ext cx="8372520" cy="320400"/>
            <a:chOff x="771480" y="6550200"/>
            <a:chExt cx="8372520" cy="320400"/>
          </a:xfrm>
        </p:grpSpPr>
        <p:sp>
          <p:nvSpPr>
            <p:cNvPr id="132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30" name="PlaceHolder 3"/>
          <p:cNvSpPr>
            <a:spLocks noGrp="1"/>
          </p:cNvSpPr>
          <p:nvPr>
            <p:ph type="sldNum" idx="2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D08D5-E054-407B-A6DE-A604C1426B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7" name="Group 4"/>
          <p:cNvGrpSpPr/>
          <p:nvPr/>
        </p:nvGrpSpPr>
        <p:grpSpPr>
          <a:xfrm>
            <a:off x="771480" y="6550200"/>
            <a:ext cx="8372520" cy="320400"/>
            <a:chOff x="771480" y="6550200"/>
            <a:chExt cx="8372520" cy="320400"/>
          </a:xfrm>
        </p:grpSpPr>
        <p:sp>
          <p:nvSpPr>
            <p:cNvPr id="136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0"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73" name="PlaceHolder 3"/>
          <p:cNvSpPr>
            <a:spLocks noGrp="1"/>
          </p:cNvSpPr>
          <p:nvPr>
            <p:ph type="sldNum" idx="2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9BEE2-C468-466B-B960-B144E2160A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0" name="Group 4"/>
          <p:cNvGrpSpPr/>
          <p:nvPr/>
        </p:nvGrpSpPr>
        <p:grpSpPr>
          <a:xfrm>
            <a:off x="771480" y="6550200"/>
            <a:ext cx="8372520" cy="320400"/>
            <a:chOff x="771480" y="6550200"/>
            <a:chExt cx="8372520" cy="320400"/>
          </a:xfrm>
        </p:grpSpPr>
        <p:sp>
          <p:nvSpPr>
            <p:cNvPr id="141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16" name="PlaceHolder 3"/>
          <p:cNvSpPr>
            <a:spLocks noGrp="1"/>
          </p:cNvSpPr>
          <p:nvPr>
            <p:ph type="sldNum" idx="2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D03EE-31FF-4723-B2F7-05A432D21E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3" name="Group 4"/>
          <p:cNvGrpSpPr/>
          <p:nvPr/>
        </p:nvGrpSpPr>
        <p:grpSpPr>
          <a:xfrm>
            <a:off x="771480" y="6550200"/>
            <a:ext cx="8372520" cy="320400"/>
            <a:chOff x="771480" y="6550200"/>
            <a:chExt cx="8372520" cy="320400"/>
          </a:xfrm>
        </p:grpSpPr>
        <p:sp>
          <p:nvSpPr>
            <p:cNvPr id="14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4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59" name="PlaceHolder 3"/>
          <p:cNvSpPr>
            <a:spLocks noGrp="1"/>
          </p:cNvSpPr>
          <p:nvPr>
            <p:ph type="sldNum" idx="2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C3714-6A4C-4DA5-8B06-02370BC6D8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6" name="Group 4"/>
          <p:cNvGrpSpPr/>
          <p:nvPr/>
        </p:nvGrpSpPr>
        <p:grpSpPr>
          <a:xfrm>
            <a:off x="771480" y="6550200"/>
            <a:ext cx="8372520" cy="320400"/>
            <a:chOff x="771480" y="6550200"/>
            <a:chExt cx="8372520" cy="320400"/>
          </a:xfrm>
        </p:grpSpPr>
        <p:sp>
          <p:nvSpPr>
            <p:cNvPr id="149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03" name="PlaceHolder 3"/>
          <p:cNvSpPr>
            <a:spLocks noGrp="1"/>
          </p:cNvSpPr>
          <p:nvPr>
            <p:ph type="sldNum" idx="3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EF0E7-8B31-475C-8A38-231E324143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0" name="Group 4"/>
          <p:cNvGrpSpPr/>
          <p:nvPr/>
        </p:nvGrpSpPr>
        <p:grpSpPr>
          <a:xfrm>
            <a:off x="771480" y="6550200"/>
            <a:ext cx="8372520" cy="320400"/>
            <a:chOff x="771480" y="6550200"/>
            <a:chExt cx="8372520" cy="320400"/>
          </a:xfrm>
        </p:grpSpPr>
        <p:sp>
          <p:nvSpPr>
            <p:cNvPr id="15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5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46" name="PlaceHolder 3"/>
          <p:cNvSpPr>
            <a:spLocks noGrp="1"/>
          </p:cNvSpPr>
          <p:nvPr>
            <p:ph type="sldNum" idx="3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F6B1D-C195-4683-8A3A-7F1C87DC3DF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4"/>
          <p:cNvGrpSpPr/>
          <p:nvPr/>
        </p:nvGrpSpPr>
        <p:grpSpPr>
          <a:xfrm>
            <a:off x="771480" y="6550200"/>
            <a:ext cx="8372520" cy="320400"/>
            <a:chOff x="771480" y="6550200"/>
            <a:chExt cx="8372520" cy="320400"/>
          </a:xfrm>
        </p:grpSpPr>
        <p:sp>
          <p:nvSpPr>
            <p:cNvPr id="157"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63" name="PlaceHolder 3"/>
          <p:cNvSpPr>
            <a:spLocks noGrp="1"/>
          </p:cNvSpPr>
          <p:nvPr>
            <p:ph type="sldNum" idx="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9D1CF-FF5B-4FFA-9204-1527189A39C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Group 4"/>
          <p:cNvGrpSpPr/>
          <p:nvPr/>
        </p:nvGrpSpPr>
        <p:grpSpPr>
          <a:xfrm>
            <a:off x="771480" y="6550200"/>
            <a:ext cx="8372520" cy="320400"/>
            <a:chOff x="771480" y="6550200"/>
            <a:chExt cx="8372520" cy="320400"/>
          </a:xfrm>
        </p:grpSpPr>
        <p:sp>
          <p:nvSpPr>
            <p:cNvPr id="201"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07" name="PlaceHolder 3"/>
          <p:cNvSpPr>
            <a:spLocks noGrp="1"/>
          </p:cNvSpPr>
          <p:nvPr>
            <p:ph type="sldNum" idx="5"/>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A3F4E-1D91-45F2-A1AB-F65E020216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E808F-D9D4-43C7-930E-593C4A743D10}"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245" name="Group 6"/>
          <p:cNvGrpSpPr/>
          <p:nvPr/>
        </p:nvGrpSpPr>
        <p:grpSpPr>
          <a:xfrm>
            <a:off x="771480" y="6550200"/>
            <a:ext cx="8372520" cy="320400"/>
            <a:chOff x="771480" y="6550200"/>
            <a:chExt cx="8372520" cy="320400"/>
          </a:xfrm>
        </p:grpSpPr>
        <p:sp>
          <p:nvSpPr>
            <p:cNvPr id="246"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Group 4"/>
          <p:cNvGrpSpPr/>
          <p:nvPr/>
        </p:nvGrpSpPr>
        <p:grpSpPr>
          <a:xfrm>
            <a:off x="771480" y="6541560"/>
            <a:ext cx="8372520" cy="321120"/>
            <a:chOff x="771480" y="6541560"/>
            <a:chExt cx="8372520" cy="321120"/>
          </a:xfrm>
        </p:grpSpPr>
        <p:sp>
          <p:nvSpPr>
            <p:cNvPr id="288"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9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5A8EE-37B0-4AA9-ABFB-B4BB08BB72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Group 4"/>
          <p:cNvGrpSpPr/>
          <p:nvPr/>
        </p:nvGrpSpPr>
        <p:grpSpPr>
          <a:xfrm>
            <a:off x="771480" y="6541560"/>
            <a:ext cx="8372520" cy="321120"/>
            <a:chOff x="771480" y="6541560"/>
            <a:chExt cx="8372520" cy="321120"/>
          </a:xfrm>
        </p:grpSpPr>
        <p:sp>
          <p:nvSpPr>
            <p:cNvPr id="332"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38"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D964A-6952-40EB-8F15-F0A5B0B2DB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2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2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2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2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2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2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2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title"/>
          </p:nvPr>
        </p:nvSpPr>
        <p:spPr>
          <a:xfrm>
            <a:off x="609120" y="2666880"/>
            <a:ext cx="769644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Deep Dive into the Math Shifts </a:t>
            </a:r>
            <a:br>
              <a:rPr sz="4000"/>
            </a:br>
            <a:endParaRPr b="1" lang="en-US" sz="4000" spc="-1" strike="noStrike">
              <a:solidFill>
                <a:srgbClr val="17375e"/>
              </a:solidFill>
              <a:latin typeface="Century Gothic"/>
            </a:endParaRPr>
          </a:p>
        </p:txBody>
      </p:sp>
      <p:sp>
        <p:nvSpPr>
          <p:cNvPr id="1591" name="PlaceHolder 2"/>
          <p:cNvSpPr>
            <a:spLocks noGrp="1"/>
          </p:cNvSpPr>
          <p:nvPr>
            <p:ph type="subTitle"/>
          </p:nvPr>
        </p:nvSpPr>
        <p:spPr>
          <a:xfrm>
            <a:off x="685800" y="4271760"/>
            <a:ext cx="6400800" cy="134460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Understanding Focus, Coherence, and Rigor in the Common Core State Standards for Mathematics</a:t>
            </a:r>
            <a:endParaRPr b="0" lang="en-US" sz="2800" spc="-1" strike="noStrike">
              <a:solidFill>
                <a:srgbClr val="262626"/>
              </a:solidFill>
              <a:latin typeface="Calibri"/>
            </a:endParaRPr>
          </a:p>
        </p:txBody>
      </p:sp>
      <p:pic>
        <p:nvPicPr>
          <p:cNvPr id="1592" name="Picture 5" descr="C:\Users\SAP\Desktop\SAP_iTunesCover_square_01.jpg"/>
          <p:cNvPicPr/>
          <p:nvPr/>
        </p:nvPicPr>
        <p:blipFill>
          <a:blip r:embed="rId1"/>
          <a:stretch/>
        </p:blipFill>
        <p:spPr>
          <a:xfrm>
            <a:off x="7772400" y="1522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K-2 Content</a:t>
            </a:r>
            <a:endParaRPr b="1" lang="en-US" sz="2800" spc="-1" strike="noStrike">
              <a:solidFill>
                <a:srgbClr val="17375e"/>
              </a:solidFill>
              <a:latin typeface="Century Gothic"/>
            </a:endParaRPr>
          </a:p>
        </p:txBody>
      </p:sp>
      <p:sp>
        <p:nvSpPr>
          <p:cNvPr id="160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K-2?</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a:t>
            </a:r>
            <a:r>
              <a:rPr b="1" lang="en-US" sz="2400" spc="-1" strike="noStrike">
                <a:solidFill>
                  <a:srgbClr val="262626"/>
                </a:solidFill>
                <a:latin typeface="Calibri"/>
              </a:rPr>
              <a:t>,</a:t>
            </a:r>
            <a:r>
              <a:rPr b="0" lang="en-US" sz="2400" spc="-1" strike="noStrike">
                <a:solidFill>
                  <a:srgbClr val="262626"/>
                </a:solidFill>
                <a:latin typeface="Calibri"/>
              </a:rPr>
              <a:t>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6" name="Picture 3" descr="Grade 3.PNG"/>
          <p:cNvPicPr/>
          <p:nvPr/>
        </p:nvPicPr>
        <p:blipFill>
          <a:blip r:embed="rId1"/>
          <a:stretch/>
        </p:blipFill>
        <p:spPr>
          <a:xfrm>
            <a:off x="2028960" y="352440"/>
            <a:ext cx="5086080" cy="615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7" name="Picture 3" descr="CEC Grade 3.PNG"/>
          <p:cNvPicPr/>
          <p:nvPr/>
        </p:nvPicPr>
        <p:blipFill>
          <a:blip r:embed="rId1"/>
          <a:stretch/>
        </p:blipFill>
        <p:spPr>
          <a:xfrm>
            <a:off x="1228680" y="871560"/>
            <a:ext cx="6686640" cy="511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8" name="Picture 3" descr="Grade 4.PNG"/>
          <p:cNvPicPr/>
          <p:nvPr/>
        </p:nvPicPr>
        <p:blipFill>
          <a:blip r:embed="rId1"/>
          <a:stretch/>
        </p:blipFill>
        <p:spPr>
          <a:xfrm>
            <a:off x="2071800" y="0"/>
            <a:ext cx="5000400" cy="644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9" name="Picture 3" descr="CEC Grade 4.PNG"/>
          <p:cNvPicPr/>
          <p:nvPr/>
        </p:nvPicPr>
        <p:blipFill>
          <a:blip r:embed="rId1"/>
          <a:stretch/>
        </p:blipFill>
        <p:spPr>
          <a:xfrm>
            <a:off x="1200240" y="1095480"/>
            <a:ext cx="6743520" cy="46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Picture 3" descr="Grade 5.PNG"/>
          <p:cNvPicPr/>
          <p:nvPr/>
        </p:nvPicPr>
        <p:blipFill>
          <a:blip r:embed="rId1"/>
          <a:stretch/>
        </p:blipFill>
        <p:spPr>
          <a:xfrm>
            <a:off x="2000160" y="380880"/>
            <a:ext cx="514368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1" name="Picture 3" descr="CEC Grade 5.PNG"/>
          <p:cNvPicPr/>
          <p:nvPr/>
        </p:nvPicPr>
        <p:blipFill>
          <a:blip r:embed="rId1"/>
          <a:stretch/>
        </p:blipFill>
        <p:spPr>
          <a:xfrm>
            <a:off x="1195560" y="1190520"/>
            <a:ext cx="6752880" cy="447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3-5 Content</a:t>
            </a:r>
            <a:endParaRPr b="1" lang="en-US" sz="2800" spc="-1" strike="noStrike">
              <a:solidFill>
                <a:srgbClr val="17375e"/>
              </a:solidFill>
              <a:latin typeface="Century Gothic"/>
            </a:endParaRPr>
          </a:p>
        </p:txBody>
      </p:sp>
      <p:sp>
        <p:nvSpPr>
          <p:cNvPr id="161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3-5?</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4" name="Picture 4" descr="Grade 6.PNG"/>
          <p:cNvPicPr/>
          <p:nvPr/>
        </p:nvPicPr>
        <p:blipFill>
          <a:blip r:embed="rId1"/>
          <a:stretch/>
        </p:blipFill>
        <p:spPr>
          <a:xfrm>
            <a:off x="1976400" y="385920"/>
            <a:ext cx="5191200" cy="608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5" name="Picture 3" descr="CEC Grade 6.PNG"/>
          <p:cNvPicPr/>
          <p:nvPr/>
        </p:nvPicPr>
        <p:blipFill>
          <a:blip r:embed="rId1"/>
          <a:stretch/>
        </p:blipFill>
        <p:spPr>
          <a:xfrm>
            <a:off x="1190520" y="1366920"/>
            <a:ext cx="6762960" cy="412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594"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595"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6" name="Picture 3" descr="Grade 7.PNG"/>
          <p:cNvPicPr/>
          <p:nvPr/>
        </p:nvPicPr>
        <p:blipFill>
          <a:blip r:embed="rId1"/>
          <a:stretch/>
        </p:blipFill>
        <p:spPr>
          <a:xfrm>
            <a:off x="2066760" y="0"/>
            <a:ext cx="4981680" cy="649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7" name="Picture 3" descr="CEC Grade 7.PNG"/>
          <p:cNvPicPr/>
          <p:nvPr/>
        </p:nvPicPr>
        <p:blipFill>
          <a:blip r:embed="rId1"/>
          <a:stretch/>
        </p:blipFill>
        <p:spPr>
          <a:xfrm>
            <a:off x="1143000" y="1523880"/>
            <a:ext cx="6745320" cy="38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8" name="Picture 3" descr="Grade 8.PNG"/>
          <p:cNvPicPr/>
          <p:nvPr/>
        </p:nvPicPr>
        <p:blipFill>
          <a:blip r:embed="rId1"/>
          <a:stretch/>
        </p:blipFill>
        <p:spPr>
          <a:xfrm>
            <a:off x="2028960" y="6480"/>
            <a:ext cx="5086080" cy="63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9" name="Picture 2" descr=""/>
          <p:cNvPicPr/>
          <p:nvPr/>
        </p:nvPicPr>
        <p:blipFill>
          <a:blip r:embed="rId1"/>
          <a:stretch/>
        </p:blipFill>
        <p:spPr>
          <a:xfrm>
            <a:off x="1371600" y="1981080"/>
            <a:ext cx="6438960" cy="3305160"/>
          </a:xfrm>
          <a:prstGeom prst="rect">
            <a:avLst/>
          </a:prstGeom>
          <a:ln w="0">
            <a:noFill/>
          </a:ln>
        </p:spPr>
      </p:pic>
      <p:pic>
        <p:nvPicPr>
          <p:cNvPr id="1620" name="Picture 3" descr=""/>
          <p:cNvPicPr/>
          <p:nvPr/>
        </p:nvPicPr>
        <p:blipFill>
          <a:blip r:embed="rId2"/>
          <a:stretch/>
        </p:blipFill>
        <p:spPr>
          <a:xfrm>
            <a:off x="1333440" y="1571760"/>
            <a:ext cx="2857680" cy="40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6-8 Content</a:t>
            </a:r>
            <a:endParaRPr b="1" lang="en-US" sz="2800" spc="-1" strike="noStrike">
              <a:solidFill>
                <a:srgbClr val="17375e"/>
              </a:solidFill>
              <a:latin typeface="Century Gothic"/>
            </a:endParaRPr>
          </a:p>
        </p:txBody>
      </p:sp>
      <p:sp>
        <p:nvSpPr>
          <p:cNvPr id="1622"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6-8?</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Coherence </a:t>
            </a:r>
            <a:r>
              <a:rPr b="1" lang="en-US" sz="6000" spc="-1" strike="noStrike">
                <a:solidFill>
                  <a:srgbClr val="17375e"/>
                </a:solidFill>
                <a:latin typeface="Century Gothic"/>
              </a:rPr>
              <a:t>Across and Within Grades</a:t>
            </a:r>
            <a:endParaRPr b="1" lang="en-US" sz="6000" spc="-1" strike="noStrike">
              <a:solidFill>
                <a:srgbClr val="17375e"/>
              </a:solidFill>
              <a:latin typeface="Century Gothic"/>
            </a:endParaRPr>
          </a:p>
        </p:txBody>
      </p:sp>
      <p:sp>
        <p:nvSpPr>
          <p:cNvPr id="1624"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bout math making sense.</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power and elegance of math comes out through carefully laid progressions and connections within grade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Within Grades</a:t>
            </a:r>
            <a:endParaRPr b="1" lang="en-US" sz="2800" spc="-1" strike="noStrike">
              <a:solidFill>
                <a:srgbClr val="17375e"/>
              </a:solidFill>
              <a:latin typeface="Century Gothic"/>
            </a:endParaRPr>
          </a:p>
        </p:txBody>
      </p:sp>
      <p:sp>
        <p:nvSpPr>
          <p:cNvPr id="162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amples:</a:t>
            </a:r>
            <a:endParaRPr b="0" lang="en-US" sz="24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1</a:t>
            </a:r>
            <a:r>
              <a:rPr b="0" lang="en-US" sz="2000" spc="-1" strike="noStrike" baseline="30000">
                <a:solidFill>
                  <a:srgbClr val="262626"/>
                </a:solidFill>
                <a:latin typeface="Calibri"/>
              </a:rPr>
              <a:t>st</a:t>
            </a:r>
            <a:r>
              <a:rPr b="0" lang="en-US" sz="2000" spc="-1" strike="noStrike">
                <a:solidFill>
                  <a:srgbClr val="262626"/>
                </a:solidFill>
                <a:latin typeface="Calibri"/>
              </a:rPr>
              <a:t> grade – 5</a:t>
            </a:r>
            <a:r>
              <a:rPr b="0" lang="en-US" sz="2000" spc="-1" strike="noStrike" baseline="30000">
                <a:solidFill>
                  <a:srgbClr val="262626"/>
                </a:solidFill>
                <a:latin typeface="Calibri"/>
              </a:rPr>
              <a:t>th</a:t>
            </a:r>
            <a:r>
              <a:rPr b="0" lang="en-US" sz="2000" spc="-1" strike="noStrike">
                <a:solidFill>
                  <a:srgbClr val="262626"/>
                </a:solidFill>
                <a:latin typeface="Calibri"/>
              </a:rPr>
              <a:t> grade:   Represent and Interpret Data</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a:t>
            </a:r>
            <a:r>
              <a:rPr b="0" lang="en-US" sz="2000" spc="-1" strike="noStrike" baseline="30000">
                <a:solidFill>
                  <a:srgbClr val="262626"/>
                </a:solidFill>
                <a:latin typeface="Calibri"/>
              </a:rPr>
              <a:t>rd</a:t>
            </a:r>
            <a:r>
              <a:rPr b="0" lang="en-US" sz="2000" spc="-1" strike="noStrike">
                <a:solidFill>
                  <a:srgbClr val="262626"/>
                </a:solidFill>
                <a:latin typeface="Calibri"/>
              </a:rPr>
              <a:t> grade &amp; 5</a:t>
            </a:r>
            <a:r>
              <a:rPr b="0" lang="en-US" sz="2000" spc="-1" strike="noStrike" baseline="30000">
                <a:solidFill>
                  <a:srgbClr val="262626"/>
                </a:solidFill>
                <a:latin typeface="Calibri"/>
              </a:rPr>
              <a:t>th</a:t>
            </a:r>
            <a:r>
              <a:rPr b="0" lang="en-US" sz="2000" spc="-1" strike="noStrike">
                <a:solidFill>
                  <a:srgbClr val="262626"/>
                </a:solidFill>
                <a:latin typeface="Calibri"/>
              </a:rPr>
              <a:t> grade:  “Relate area (volume) to multiplication and to addition.”</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6</a:t>
            </a:r>
            <a:r>
              <a:rPr b="0" lang="en-US" sz="2000" spc="-1" strike="noStrike" baseline="30000">
                <a:solidFill>
                  <a:srgbClr val="262626"/>
                </a:solidFill>
                <a:latin typeface="Calibri"/>
              </a:rPr>
              <a:t>th</a:t>
            </a:r>
            <a:r>
              <a:rPr b="0" lang="en-US" sz="2000" spc="-1" strike="noStrike">
                <a:solidFill>
                  <a:srgbClr val="262626"/>
                </a:solidFill>
                <a:latin typeface="Calibri"/>
              </a:rPr>
              <a:t> grade:  Solve problems by graphing in all 4 quadrants.  (1</a:t>
            </a:r>
            <a:r>
              <a:rPr b="0" lang="en-US" sz="2000" spc="-1" strike="noStrike" baseline="30000">
                <a:solidFill>
                  <a:srgbClr val="262626"/>
                </a:solidFill>
                <a:latin typeface="Calibri"/>
              </a:rPr>
              <a:t>st</a:t>
            </a:r>
            <a:r>
              <a:rPr b="0" lang="en-US" sz="2000" spc="-1" strike="noStrike">
                <a:solidFill>
                  <a:srgbClr val="262626"/>
                </a:solidFill>
                <a:latin typeface="Calibri"/>
              </a:rPr>
              <a:t> year of rational number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8</a:t>
            </a:r>
            <a:r>
              <a:rPr b="0" lang="en-US" sz="2000" spc="-1" strike="noStrike" baseline="30000">
                <a:solidFill>
                  <a:srgbClr val="262626"/>
                </a:solidFill>
                <a:latin typeface="Calibri"/>
              </a:rPr>
              <a:t>th</a:t>
            </a:r>
            <a:r>
              <a:rPr b="0" lang="en-US" sz="2000" spc="-1" strike="noStrike">
                <a:solidFill>
                  <a:srgbClr val="262626"/>
                </a:solidFill>
                <a:latin typeface="Calibri"/>
              </a:rPr>
              <a:t> grade:  “Understand the connections between proportional relationships, lines and linear equation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2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Use addition and subtraction within 100 to solve word problems involving lengths that are given in the same units, e.g., by using drawings (such as drawings of rulers) and equations with a symbol for the unknown number to represent the proble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2.MD.5</a:t>
            </a:r>
            <a:endParaRPr b="0" lang="en-US" sz="2000" spc="-1" strike="noStrike">
              <a:solidFill>
                <a:srgbClr val="262626"/>
              </a:solidFill>
              <a:latin typeface="Calibri"/>
            </a:endParaRPr>
          </a:p>
        </p:txBody>
      </p:sp>
      <p:sp>
        <p:nvSpPr>
          <p:cNvPr id="162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CB9B7-BB81-44A0-B90B-EDB7AD966C1A}"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31"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Make a line plot to display a data set of measurements in fractions of a unit ( ½, ¼, </a:t>
            </a:r>
            <a:r>
              <a:rPr b="0" lang="en-US" sz="1600" spc="-1" strike="noStrike">
                <a:solidFill>
                  <a:srgbClr val="262626"/>
                </a:solidFill>
                <a:latin typeface="Calibri"/>
              </a:rPr>
              <a:t>1/8</a:t>
            </a:r>
            <a:r>
              <a:rPr b="0" lang="en-US" sz="2000" spc="-1" strike="noStrike">
                <a:solidFill>
                  <a:srgbClr val="262626"/>
                </a:solidFill>
                <a:latin typeface="Calibri"/>
              </a:rPr>
              <a:t>).  Solve problems involving addition and subtraction of fractions by using information presented in line plots.  </a:t>
            </a:r>
            <a:r>
              <a:rPr b="0" i="1" lang="en-US" sz="2000" spc="-1" strike="noStrike">
                <a:solidFill>
                  <a:srgbClr val="262626"/>
                </a:solidFill>
                <a:latin typeface="Calibri"/>
              </a:rPr>
              <a:t>For example, from a line plot find and interpret the difference in length between the longest and shortest specimens in an insect collection.</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4.MD.4</a:t>
            </a:r>
            <a:endParaRPr b="0" lang="en-US" sz="2400" spc="-1" strike="noStrike">
              <a:solidFill>
                <a:srgbClr val="262626"/>
              </a:solidFill>
              <a:latin typeface="Calibri"/>
            </a:endParaRPr>
          </a:p>
        </p:txBody>
      </p:sp>
      <p:sp>
        <p:nvSpPr>
          <p:cNvPr id="163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BD3C8-9D49-4DAA-9E12-BC368425E991}"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Across Grades</a:t>
            </a:r>
            <a:endParaRPr b="1" lang="en-US" sz="2800" spc="-1" strike="noStrike">
              <a:solidFill>
                <a:srgbClr val="17375e"/>
              </a:solidFill>
              <a:latin typeface="Century Gothic"/>
            </a:endParaRPr>
          </a:p>
        </p:txBody>
      </p:sp>
      <p:sp>
        <p:nvSpPr>
          <p:cNvPr id="1634"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herence is an important design element of the standards.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he Standards are not so much built from topics as they are woven out of progressions.”</a:t>
            </a:r>
            <a:endParaRPr b="0" lang="en-US" sz="24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1200" spc="-1" strike="noStrike">
                <a:solidFill>
                  <a:srgbClr val="262626"/>
                </a:solidFill>
                <a:latin typeface="Calibri"/>
              </a:rPr>
              <a:t>Structure is the Standards, Publishers’ Criteria for Mathematics, Appendix</a:t>
            </a:r>
            <a:endParaRPr b="0" lang="en-US" sz="12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Focus</a:t>
            </a:r>
            <a:r>
              <a:rPr b="1" lang="en-US" sz="6000" spc="-1" strike="noStrike">
                <a:solidFill>
                  <a:srgbClr val="17375e"/>
                </a:solidFill>
                <a:latin typeface="Century Gothic"/>
              </a:rPr>
              <a:t> on the Major Work of the Grade</a:t>
            </a:r>
            <a:endParaRPr b="1" lang="en-US" sz="6000" spc="-1" strike="noStrike">
              <a:solidFill>
                <a:srgbClr val="17375e"/>
              </a:solidFill>
              <a:latin typeface="Century Gothic"/>
            </a:endParaRPr>
          </a:p>
        </p:txBody>
      </p:sp>
      <p:sp>
        <p:nvSpPr>
          <p:cNvPr id="1597"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wo levels of focus</a:t>
            </a:r>
            <a:r>
              <a:rPr b="0" lang="en-US" sz="2400" spc="-1" strike="noStrike">
                <a:solidFill>
                  <a:srgbClr val="ff0000"/>
                </a:solidFill>
                <a:latin typeface="Calibri"/>
              </a:rPr>
              <a:t>:</a:t>
            </a:r>
            <a:endParaRPr b="0" lang="en-US" sz="24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hat’s in/What’s out</a:t>
            </a:r>
            <a:endParaRPr b="0" lang="en-US" sz="20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e shape of the content that is in</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Card Activity</a:t>
            </a:r>
            <a:endParaRPr b="1" lang="en-US" sz="2800" spc="-1" strike="noStrike">
              <a:solidFill>
                <a:srgbClr val="17375e"/>
              </a:solidFill>
              <a:latin typeface="Century Gothic"/>
            </a:endParaRPr>
          </a:p>
        </p:txBody>
      </p:sp>
      <p:sp>
        <p:nvSpPr>
          <p:cNvPr id="163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ctivity:  Place the standards of each color under the appropriate grade (K-8).  </a:t>
            </a:r>
            <a:endParaRPr b="0" lang="en-US" sz="24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etermine a “theme” for each color.</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No grade has two of the same color card.</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Some “themes” that have only a few cards might represent consecutive grades and some may no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Read each card in it’s entirety to help determine placemen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o not check your Standards until you and your colleagues agree on the final produc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iscuss horizontal and vertical observations with your partners.</a:t>
            </a:r>
            <a:endParaRPr b="0" lang="en-US" sz="2000" spc="-1" strike="noStrike">
              <a:solidFill>
                <a:srgbClr val="262626"/>
              </a:solidFill>
              <a:latin typeface="Calibri"/>
            </a:endParaRPr>
          </a:p>
          <a:p>
            <a:pPr lvl="1" marL="1085760" indent="-342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163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14033-E410-47EB-998C-A3A5D1629002}"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0606"/>
                </a:solidFill>
                <a:latin typeface="Century Gothic"/>
              </a:rPr>
              <a:t>Rigor: </a:t>
            </a:r>
            <a:r>
              <a:rPr b="1" lang="en-US" sz="5400" spc="-1" strike="noStrike">
                <a:solidFill>
                  <a:srgbClr val="153e27"/>
                </a:solidFill>
                <a:latin typeface="Century Gothic"/>
              </a:rPr>
              <a:t>Illustrations of Conceptual Understanding, Fluency, and Application</a:t>
            </a:r>
            <a:endParaRPr b="1" lang="en-US" sz="5400" spc="-1" strike="noStrike">
              <a:solidFill>
                <a:srgbClr val="17375e"/>
              </a:solidFill>
              <a:latin typeface="Century Gothic"/>
            </a:endParaRPr>
          </a:p>
        </p:txBody>
      </p:sp>
      <p:sp>
        <p:nvSpPr>
          <p:cNvPr id="1639"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ere rigor does not mean “hard problem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 balance of three fundamental components that result in deep mathematical understand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must be variety in what students are asked to produc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requently Asked Questions</a:t>
            </a:r>
            <a:endParaRPr b="1" lang="en-US" sz="2800" spc="-1" strike="noStrike">
              <a:solidFill>
                <a:srgbClr val="17375e"/>
              </a:solidFill>
              <a:latin typeface="Century Gothic"/>
            </a:endParaRPr>
          </a:p>
        </p:txBody>
      </p:sp>
      <p:sp>
        <p:nvSpPr>
          <p:cNvPr id="1641"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we assess fluency other than giving a timed test?</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s it really possible to assess conceptual understanding?  What does it look like?</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ren’t the Common Core State Standards for Math all about application and meaningful task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igor</a:t>
            </a:r>
            <a:endParaRPr b="1" lang="en-US" sz="2800" spc="-1" strike="noStrike">
              <a:solidFill>
                <a:srgbClr val="17375e"/>
              </a:solidFill>
              <a:latin typeface="Century Gothic"/>
            </a:endParaRPr>
          </a:p>
        </p:txBody>
      </p:sp>
      <p:sp>
        <p:nvSpPr>
          <p:cNvPr id="16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nceptual Understanding:</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NF.1    </a:t>
            </a:r>
            <a:r>
              <a:rPr b="1" lang="en-US" sz="2000" spc="-1" strike="noStrike">
                <a:solidFill>
                  <a:srgbClr val="262626"/>
                </a:solidFill>
                <a:latin typeface="Calibri"/>
              </a:rPr>
              <a:t>Understand</a:t>
            </a:r>
            <a:r>
              <a:rPr b="0" lang="en-US" sz="2000" spc="-1" strike="noStrike">
                <a:solidFill>
                  <a:srgbClr val="262626"/>
                </a:solidFill>
                <a:latin typeface="Calibri"/>
              </a:rPr>
              <a:t> a fraction 1/</a:t>
            </a:r>
            <a:r>
              <a:rPr b="0" i="1" lang="en-US" sz="2000" spc="-1" strike="noStrike">
                <a:solidFill>
                  <a:srgbClr val="262626"/>
                </a:solidFill>
                <a:latin typeface="Calibri"/>
              </a:rPr>
              <a:t>b</a:t>
            </a:r>
            <a:r>
              <a:rPr b="0" lang="en-US" sz="2000" spc="-1" strike="noStrike">
                <a:solidFill>
                  <a:srgbClr val="262626"/>
                </a:solidFill>
                <a:latin typeface="Calibri"/>
              </a:rPr>
              <a:t> as the quantity formed by 1 part when a whole is partitioned into b equal parts;  understand a fraction </a:t>
            </a:r>
            <a:r>
              <a:rPr b="0" i="1" lang="en-US" sz="2000" spc="-1" strike="noStrike">
                <a:solidFill>
                  <a:srgbClr val="262626"/>
                </a:solidFill>
                <a:latin typeface="Calibri"/>
              </a:rPr>
              <a:t>a/b</a:t>
            </a:r>
            <a:r>
              <a:rPr b="0" lang="en-US" sz="2000" spc="-1" strike="noStrike">
                <a:solidFill>
                  <a:srgbClr val="262626"/>
                </a:solidFill>
                <a:latin typeface="Calibri"/>
              </a:rPr>
              <a:t> as the quantity formed by </a:t>
            </a:r>
            <a:r>
              <a:rPr b="0" i="1" lang="en-US" sz="2000" spc="-1" strike="noStrike">
                <a:solidFill>
                  <a:srgbClr val="262626"/>
                </a:solidFill>
                <a:latin typeface="Calibri"/>
              </a:rPr>
              <a:t>a</a:t>
            </a:r>
            <a:r>
              <a:rPr b="0" lang="en-US" sz="2000" spc="-1" strike="noStrike">
                <a:solidFill>
                  <a:srgbClr val="262626"/>
                </a:solidFill>
                <a:latin typeface="Calibri"/>
              </a:rPr>
              <a:t> parts of size 1/</a:t>
            </a:r>
            <a:r>
              <a:rPr b="0" i="1" lang="en-US" sz="2000" spc="-1" strike="noStrike">
                <a:solidFill>
                  <a:srgbClr val="262626"/>
                </a:solidFill>
                <a:latin typeface="Calibri"/>
              </a:rPr>
              <a:t>b</a:t>
            </a:r>
            <a:r>
              <a:rPr b="0" lang="en-US" sz="2000" spc="-1" strike="noStrike">
                <a:solidFill>
                  <a:srgbClr val="262626"/>
                </a:solidFill>
                <a:latin typeface="Calibri"/>
              </a:rPr>
              <a:t>.</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ocedural Skill and Fluency:</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5.NBT.5  </a:t>
            </a:r>
            <a:r>
              <a:rPr b="1" lang="en-US" sz="2000" spc="-1" strike="noStrike">
                <a:solidFill>
                  <a:srgbClr val="262626"/>
                </a:solidFill>
                <a:latin typeface="Calibri"/>
              </a:rPr>
              <a:t>Fluently</a:t>
            </a:r>
            <a:r>
              <a:rPr b="0" lang="en-US" sz="2000" spc="-1" strike="noStrike">
                <a:solidFill>
                  <a:srgbClr val="262626"/>
                </a:solidFill>
                <a:latin typeface="Calibri"/>
              </a:rPr>
              <a:t> multiply multi-digit whole numbers using the standard algorith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pplication:</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7.NS.3  </a:t>
            </a:r>
            <a:r>
              <a:rPr b="1" lang="en-US" sz="2000" spc="-1" strike="noStrike">
                <a:solidFill>
                  <a:srgbClr val="262626"/>
                </a:solidFill>
                <a:latin typeface="Calibri"/>
              </a:rPr>
              <a:t>Solve real-world and mathematical problems </a:t>
            </a:r>
            <a:r>
              <a:rPr b="0" lang="en-US" sz="2000" spc="-1" strike="noStrike">
                <a:solidFill>
                  <a:srgbClr val="262626"/>
                </a:solidFill>
                <a:latin typeface="Calibri"/>
              </a:rPr>
              <a:t>involving the four operations with rational numbers.</a:t>
            </a:r>
            <a:endParaRPr b="0" lang="en-US" sz="2000" spc="-1" strike="noStrike">
              <a:solidFill>
                <a:srgbClr val="262626"/>
              </a:solidFill>
              <a:latin typeface="Calibri"/>
            </a:endParaRPr>
          </a:p>
        </p:txBody>
      </p:sp>
      <p:sp>
        <p:nvSpPr>
          <p:cNvPr id="16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7622D-F1DF-4964-AF55-0A316497C60A}"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Problems Activity</a:t>
            </a:r>
            <a:endParaRPr b="1" lang="en-US" sz="2800" spc="-1" strike="noStrike">
              <a:solidFill>
                <a:srgbClr val="17375e"/>
              </a:solidFill>
              <a:latin typeface="Century Gothic"/>
            </a:endParaRPr>
          </a:p>
        </p:txBody>
      </p:sp>
      <p:sp>
        <p:nvSpPr>
          <p:cNvPr id="164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k on a few problems from each aspect of rigor.</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prepared to discuss something you observed  from one of the problems you tried.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assessing (with tests, HW problems, exit tickets) all 3 aspects of rigor affect student learn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does it look like when we are asking students to work on procedural skill and fluency, conceptual understanding, or application?</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648"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649"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8" name="Content Placeholder 4" descr="Kindergarten.PNG"/>
          <p:cNvPicPr/>
          <p:nvPr/>
        </p:nvPicPr>
        <p:blipFill>
          <a:blip r:embed="rId1"/>
          <a:stretch/>
        </p:blipFill>
        <p:spPr>
          <a:xfrm>
            <a:off x="1752480" y="685800"/>
            <a:ext cx="5467320" cy="53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9" name="Picture 3" descr=""/>
          <p:cNvPicPr/>
          <p:nvPr/>
        </p:nvPicPr>
        <p:blipFill>
          <a:blip r:embed="rId1"/>
          <a:stretch/>
        </p:blipFill>
        <p:spPr>
          <a:xfrm>
            <a:off x="457200" y="990720"/>
            <a:ext cx="8167680" cy="4624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Picture 3" descr="Grade 1.PNG"/>
          <p:cNvPicPr/>
          <p:nvPr/>
        </p:nvPicPr>
        <p:blipFill>
          <a:blip r:embed="rId1"/>
          <a:stretch/>
        </p:blipFill>
        <p:spPr>
          <a:xfrm>
            <a:off x="1554120" y="304920"/>
            <a:ext cx="5989680" cy="618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1" name="Picture 3" descr="CEC Grade 1.PNG"/>
          <p:cNvPicPr/>
          <p:nvPr/>
        </p:nvPicPr>
        <p:blipFill>
          <a:blip r:embed="rId1"/>
          <a:stretch/>
        </p:blipFill>
        <p:spPr>
          <a:xfrm>
            <a:off x="666720" y="843120"/>
            <a:ext cx="7810560" cy="51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2" name="Picture 3" descr="Grade 2.PNG"/>
          <p:cNvPicPr/>
          <p:nvPr/>
        </p:nvPicPr>
        <p:blipFill>
          <a:blip r:embed="rId1"/>
          <a:stretch/>
        </p:blipFill>
        <p:spPr>
          <a:xfrm>
            <a:off x="1376280" y="6480"/>
            <a:ext cx="6396120" cy="654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1" descr="CEC Grade 2.PNG"/>
          <p:cNvPicPr/>
          <p:nvPr/>
        </p:nvPicPr>
        <p:blipFill>
          <a:blip r:embed="rId1"/>
          <a:stretch/>
        </p:blipFill>
        <p:spPr>
          <a:xfrm>
            <a:off x="604800" y="933480"/>
            <a:ext cx="7934400" cy="49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00:04:20Z</dcterms:created>
  <dc:creator>HP USER</dc:creator>
  <dc:description/>
  <dc:language>en-US</dc:language>
  <cp:lastModifiedBy>Pascale Joseph</cp:lastModifiedBy>
  <cp:lastPrinted>2012-06-25T22:07:29Z</cp:lastPrinted>
  <dcterms:modified xsi:type="dcterms:W3CDTF">2020-01-23T20:11:08Z</dcterms:modified>
  <cp:revision>36</cp:revision>
  <dc:subject/>
  <dc:title>Deep Engagement with the Shifts of the Common Core State Standards  Mathematics</dc:title>
</cp:coreProperties>
</file>