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C00B1-6C9A-412C-8A04-FCA4C2C06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409A-661B-428F-B288-CF619CCFD64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2CFFD-9390-4BE3-A788-EF3355B2CB5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4ADCE-3C18-4E5E-8552-02121B11EBF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8B53E-1B02-4A37-8D49-0A9C0322576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C31B-C667-4AEE-991B-B918F9EC5AC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5336C-2EBB-4968-8239-36C646AF400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D905-B7C7-46FA-B1A8-3AAA12EBF3B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6E6F2-4EAC-45AD-A021-14F883BD380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FABD-A163-48C7-B71C-21D350AC427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9CB2D-B13E-43A8-82CE-F405B261E80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1DA8-594E-4213-ACE9-0B43D734DA9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7AAAF-6B15-4E37-824F-9686318C854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E28E5-A99E-41B9-87E6-991D457105A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FE03-89D6-4D6A-B116-9F99970C8C6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C83B4-6670-482D-9BE6-4DF39814EA5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44D5-F3E3-4180-B714-BEC827BECFF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7896C-AB4E-487B-B860-FF8000130BA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459F-9777-4C96-BBF0-B6DFBE89367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C31C-0A13-4825-9FD7-60225C58233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D38C-7461-4D99-AD40-7F048938F10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FAFEB-2959-4F2B-8F01-8194B6C3FC5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CDC69-FA66-4F5A-AB25-A902A6F5382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C0E61-23FB-44CF-B25B-E2EADE5EBC0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80FFE-4555-4DC3-AD3A-05846D9513E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FB42D-B5A5-4405-B658-C57CBEE197C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255F2-E22E-49EF-AA20-6AA176F9DAB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8F40D-50FB-4CE0-B6E4-D5E84DE701F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AE47C-721B-48A5-A427-B30B37D142D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1EDA-7CFC-4367-9F23-CD0D3FB2C40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5FBB-6D47-4AC2-9525-CB123E47D9F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A7542-DB6D-4442-86E4-33B19E44203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9E81A-D94D-4A4A-875C-2E73A0775C4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BF55C-7C75-4B40-9979-AF0AE1A461C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0B893-639D-445B-8823-6C5E6BB8397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2D520-846D-4969-BF37-8FF308354CF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96628C-ED48-4F9F-BC2F-8822813FDC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A4418401-6CBB-4F57-9EAF-C5940766347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44038045-9D60-4474-9A4D-0741C591D38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38C2AC24-1FA3-4605-B0B9-86C064DF8E3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354272FC-6096-4A29-949E-AFAB2ED15E3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690E38E-4D53-420A-B069-82F08B29DDD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B75D616-55D4-4CEA-B939-D978C03CAF8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45EBE32-EE78-4DF3-AB6A-E5CCB734CF5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ACCBA081-A6BE-4E5D-A1E9-3E58DB2207F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FE273AA0-8F6C-4FDB-ADE9-1F702C5BAB0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02656569-1B85-42BD-AC5E-CFAC2711A0B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9402BD8-48D2-448F-BE98-1AA810EBB0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5A38F354-EC5B-4701-8BF8-C84CADBE948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219F963D-4274-4DD3-9994-F2C180F57BB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7BF1052B-BB1B-42F9-80F7-D7F7597BF93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3688E924-9334-4971-AB1C-A882AB20DF3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913BECBE-DF07-4AAC-9FB8-FE259512096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F3CB5A40-7FBC-4E4B-868C-300FC58180D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149FD286-5897-4EFF-A4A2-EB820716BCA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EC0085B-90A4-4079-ADE4-B18890F3BB3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7F61722-8ED7-4022-8F6A-DF614DCB417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8031E924-F27C-4367-8B80-D530D4D4A49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CB436CD0-75BB-4E05-B40E-1A2E739EEF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36E8D938-17A8-4A9A-BD50-C219B0E7416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0F87900A-03FD-4FE8-B16C-3EAB4982339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A53AACA-2228-458F-86D1-58B524901E0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BCC0D46A-BCFF-471A-97E5-61333DBC3AA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34B5EF9A-1AF1-4DFD-9B3F-F9E8567D14C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FE50F277-AC53-41AF-B8F6-CB298A9A59C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73C8EE3D-B63F-4C9F-8ED7-F1C053DDF04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F139CC02-7F59-4970-8F3C-FD5CA047CF5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FE2489B-56E0-4B30-B6C5-5111318E19E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C574F88-D30E-4D33-A7F4-F66FE62B2FA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5EBE955-8DF0-4898-B906-BFFD568308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AAF6AA-817E-42DB-8837-68CBB0AB3D7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2479A3B9-0199-47BB-A522-53BF89270D1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5CAB694B-F4B2-4D83-8E09-BC3036EAF3C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0330C65E-515A-4F3B-8A87-677C93B6068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50C15D2-50B1-47D0-8952-940E254CF80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71C5DB2F-7847-4210-B00E-86E9103FB17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F2FEB21C-A5C7-44B4-88BC-A3A77EF854E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0BDBA983-36D5-460B-AC07-C01B12295AD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48462139-09B4-4489-AB38-51B65DB8596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D32FF78D-81F8-4DDE-BFCF-0B4EAE80CAD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55E3732-956F-4B6B-B12B-00524C97FF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E0167CAA-55B3-4D0E-8670-2A7A3DB8436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4AA13930-72E2-47E2-8840-6D47170438F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401EA0E0-25AE-4BD0-96C8-A676EEE2C31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93C88393-DE2B-4D97-8E3A-AF6B3725417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A1E6840B-7BB8-4291-860D-92010608B9E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76A9B466-A6F4-4ACC-BDB0-706E7E57202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702F3CF-C5C1-4A41-8C07-0B6CA56B1ED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2B931B5F-FE6F-4636-8709-B7D682C6838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23530A50-88FF-44E1-976E-CF90EF5AE67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4BC95F78-1EC1-470E-BA53-49F5A1E9151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75B4A51D-3612-445E-B033-31A4399FBD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82AB078F-4B8C-4D3E-8103-D2DC1B8F101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B6D7E8DA-A2C2-4737-962E-E38FB8F1B83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C42382C-8F7D-4A4D-971C-6829B4BDEF7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B799A5E-D016-480B-A3F6-E2334046CEF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5CF8DC1-1BDB-47BE-83AA-CDAAD224D14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9426DBB1-3851-4E44-940E-545F8D1625E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05A3C5CB-97CA-4FC3-8B7E-56BE15A54F4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90D98D01-0216-4531-A722-1FA103E5E407}"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D10EF3F-0404-48E2-8E8F-181521D4810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0628D054-7446-453B-B77C-3B5C2C59C5D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3D0B7DEA-FDE8-463A-9678-DCD7A432DE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E4AD5F26-EC74-42B6-855D-D9C9333CDADF}"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3F14BDAA-C11B-4368-9821-8E3BECFD4E0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B5C6BE92-1704-405C-8331-41ED914EC7A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E0B7F1C8-E325-4520-BBC4-B46A40AD20C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3601DDA-4B72-48E3-926C-018D662ED42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937E99D0-7872-4E16-9871-ED6814AE697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A6A69B3-4EC3-4E97-A377-B57B3F3A796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2A23E245-0C3F-4C1B-9A25-72D50D28BF7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1B259C5E-671E-4634-B2FE-D70572292EB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A38E5FE5-752C-47F8-A6B2-2637C80A46E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3B24DD98-A64E-4D9F-96F3-42FC9D333A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C0784ABB-4F0F-4858-B6EE-39A37C5F5AEA}"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9CA1684-E6A5-4F1A-A149-904B676B4E2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0FA75388-C03B-4272-B511-F86B5255DBC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7D97CBB0-CE77-4335-9D37-CA2D09D0207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976F4656-010F-48E7-AA8E-D0F339A8EFF7}"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8A74A223-CBB9-4F73-9F81-F612EDADBF5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27686FB5-76C3-4C93-AE40-EEAC70F5646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B5496A74-1960-4D01-A8A2-4183C49C08A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1DAA9A58-1AC1-4AF2-8C38-E5BDC942ADE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62422F65-1F35-4262-A3A7-439C1357440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6093254F-25B3-4D67-8642-D433BFAB19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4ACA4D58-5EC3-4039-B0F0-4F52134D590B}"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F056725C-2354-4A46-9175-FBB0C116CC16}"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2A8FE12-B6CC-4FAA-A91A-C3FF5F526C70}"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9B0F47F-A240-4137-8B99-2C822EC5760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5875FE50-D164-4279-8593-AD1B08CA905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ABF094CA-0559-406D-B3D3-3C29F32493E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12FF2A06-188F-4474-AD62-98965860C672}"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FF4DBDE7-4C9E-4775-AEC6-44BF72192F4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6A83B1C2-478D-4826-B22F-C20047A033B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F965C85-8276-43C4-B22E-CF34CA7FA3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782BD669-36A7-4F58-9C8F-DC893786A4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AFEE714-3BEE-41DC-A351-59C6F88BA0C8}"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39CCC7DA-6B9A-441F-8A48-B708E0D085C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13E7BC30-5A6E-4BBA-BAD4-56588D6A57E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5B60D7C7-EBCC-4D0F-B9E4-AA4813DCE90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F1A78186-DB3F-4760-95FB-536F7A21247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8D17E2E9-CB82-45E9-882D-AF0BD5E944D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EAA7155-4E61-4733-ABC6-9BA6BD72C577}"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0D1A99E3-2DCD-47F5-B70F-246B37F709A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D856425B-C1DE-453F-9F9B-9CD8CE3380A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F1959ACB-3D10-45A6-BBD4-6232AE87DB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5EC782B5-2100-4A12-9BEA-FBF8AD90BA7E}"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D1578955-AC02-4D47-8510-87498313F5DF}"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7948D517-F488-4D79-9F82-500EE0F9D08D}"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A456EE94-420F-4153-8186-870B79A6449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B9D7A5ED-BA2E-48D4-A7B8-C8CA6E52D9B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6991D33-95F6-4D63-AA70-E27F547634D9}"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07351043-2323-4F8A-9A0E-42C075B96330}"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E8E0DF34-6B94-4062-9E3D-D16EFFB25048}"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6E2F8DA0-9D7D-4322-8DCE-DCCE142D020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DC3B5327-A260-4C0E-B995-A6A723908360}"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4E1B2D0-892A-4961-8EC9-8708DF889D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BA1BA869-9FBB-48E9-85E8-77A3B2AA7982}"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1C7163A7-4DF0-4A54-B7AC-CFDE7D6CF218}"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44CCBDB3-2DB6-426B-B3FB-4A76F93DBBA6}"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9F547DE2-702D-4F3D-A3B0-DA39CAC831B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B886707C-B8A3-4499-A96C-852CAEF8DA8A}"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F59B14BB-D67C-4838-B8A3-88D5BD170FBB}"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8D2C1741-DE0C-43BE-9A87-46D7567FD93E}"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50C5005E-1D77-464D-B581-0924A03A28F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DE739FF-B7FB-411D-B090-D50FAC47A01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6F4B66FF-A8D4-418A-BD8A-ADFEC84B88E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246ADE58-EFF9-4EF6-BD9A-62671C12B4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2F987172-4156-4C00-A477-BCC81E00F487}"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A0666917-F5E5-44CA-92A2-240A477DDE1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B424EC0F-8B47-43C5-AF88-523EE6918858}"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FFA462DA-CAAE-4085-9D93-ADD5C891D72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E98A579D-1E87-4638-8B28-D6627375C6D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7C5DE607-26C2-4DDE-92AA-94E50FB1FC9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0EBA97C8-2CE2-4737-B75A-C2AFC742E2C8}"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52E340EC-0DA0-4FF5-B2D1-69BCCA3B697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2A333A6B-5FDC-42C7-BA77-48C678FF822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27038D1D-DECC-417C-BEE1-5B36D06B915B}"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0BA68CE-82D0-445D-ACC8-D79E28F3C3F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A9EA8B8-AF27-45E7-BAE1-D6C0142EFF96}"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5EA6D706-76E2-4B71-A01D-6189F4BECB54}"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A5120782-8F60-4FF7-9675-6BB7EC4758F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12B0A07E-D799-4957-9E2D-19A2C26D0E51}"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8FDA708-BBBD-47B7-87A8-D370A4E80A2B}"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A8686122-95F1-4FA5-BF29-41F76F7E8108}"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694EB5F0-7FE0-4FA2-A8C9-75DC28A13FA4}"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BED30915-EA02-4FEE-842F-D0755AD3054C}"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96930AE0-6697-4CD0-A0C1-F66F53E46F7F}"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D22B71A7-739B-4544-8F96-323EF1D9CC65}"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171ACF8-CA50-45F2-AB62-BE08E768409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35C16D9A-FCC0-4B02-AED3-6D9EEB1EDE56}"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7D228723-D91B-481D-A35A-CA61BCC7EAA4}"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6A7359E1-E998-4F0A-B0CD-1CCEAE7CDFE4}"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E3D0580A-7B8A-4191-B5FA-2A43E8D3E65C}"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56645557-8644-4206-B11B-77999A6115A1}"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27738E91-C8A4-45DD-A9F7-4413E33D3056}"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93E5E31F-5953-4B81-BBF7-48023B175258}"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C5540B4B-A458-41E6-99F4-13D092B946BB}"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484CC05D-6492-4B6B-98F2-34ADED0DB0AC}"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2576BE9F-A730-41FF-94AA-13BFC6742390}"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92BD1F00-23F4-4E42-B465-FE7AB654DB8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1093B968-757C-42D6-9476-4ED84678BAAB}"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7B295EF6-78B2-48AA-BDCC-A44873A6FEDB}"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DA714494-F85D-4EEC-8228-232F7F8F94B0}"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7B4DAE25-9402-4D1A-9347-2E38F41FF013}"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6218A07-3FA9-476C-828E-E96CBBA1B3D3}"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27939A8F-653C-40AB-888B-B73EB8ABAE8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7EE51DB7-4329-42FD-80FB-ADF73083F637}"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D9715539-EFFA-49E3-9E7A-BA38FFA65D5C}"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45085CE-E1F1-4907-85E5-75DCC98C466A}"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77E60882-0936-4C60-BE0E-D312462B17D2}"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67E41380-DA07-4348-8271-B1D6069539F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304D6679-AAFF-44CB-8CBC-30189FC826ED}"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367C3985-65DE-4C66-9477-7F60F9229EDC}"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1208706B-D129-480E-97C9-58651E2677B6}"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9F28E63E-9E01-47E4-A15E-07BBF0E21ABC}"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F8DDC78D-74F7-4671-B87F-19A2BE00D05F}"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8DFC6BA7-6CD9-4354-8627-A2879DAF5EF3}"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29927AD3-C429-4A8C-96A2-22090C0C9578}"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242A0FE5-AD20-4A47-837B-34626F2A8918}"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77904523-309B-46D7-BE7B-E8966311BC75}"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E5F0EA77-0A7E-457C-853F-FC62FA24F350}"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81BAC2C5-30CD-4C35-9BCD-4542C851087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F84D8FBF-8AAB-4008-ABDC-CAEC43133567}"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F916A691-170B-46AC-930D-6D9590C68DFB}"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6E88E28F-8311-4360-8EA1-0829C351B793}"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7BC1D7DC-CBAB-4695-9CDF-686B8E0C9B4F}"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735D0820-0023-4415-99EF-661D262D16E5}"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12659811-1639-4E30-8F66-6A8B7D330C86}"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9BE7BF0F-3110-42B9-B162-FFAC03B46618}"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FA17BD77-51B9-44C1-9C99-08DDEEBE954B}"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305F1302-68F5-4CB7-B2A2-8D6E5CD89ED3}"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6312C934-BC15-47F9-B5D8-0C7D938AE3DE}"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5D94C6E5-7CD9-4356-B7F3-2864E7884C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A829B6F6-A91A-4233-8730-A9FFF5739FC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16D72E7E-0688-4B97-AAF3-DE8D1DF8AD83}"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237D3E01-49C1-4214-81C9-5C61A83BCDD9}"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79D55875-B6ED-4C58-881B-9B866BF6610C}"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B032C6B4-8B7C-4EB1-B8BE-229F977F8C7D}"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7E0A6497-63A2-4167-8419-67DAEBA9B913}"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EB2BC4CC-EAB6-4A92-94C6-17C9F1124B17}"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256711C9-6CA6-4E9F-B6B6-7F3C83A4E4F3}"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C84BF6F9-FA11-46AC-A7F0-B370301C1C0F}"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D3DBCFBF-6491-4C6D-B3C1-8F0E2D3E7760}"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AF1522F0-5081-4022-9A41-1B08C802F94F}"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AA8F5ABC-073B-4E02-B2D9-E93A3172103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78DB98C-E9F2-4D1D-9FC4-DCE17B4B5B8E}"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9658500A-F2B2-44DD-97A4-6C29CB055D79}"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8CEF0DDA-4974-46A0-A79A-7508FA5BE751}"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98040D83-F240-46A8-BA38-65BB8A445447}"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2D5B9D7-5416-4EA0-A52A-21AC794D4495}"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2C9DC183-7BD7-45B4-A89C-F06224D53E67}"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10E2DAC6-8E40-459B-BD84-4ADFF6A10570}"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BD2ECA56-4045-4E6F-A176-26C23E190B03}"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9A515FF4-8F61-4E8A-B4B3-BE9B5A30549E}"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62E0EE3A-E4C9-451C-840A-9F74D23CD2F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AF4C51E-FC73-458D-8F33-73817EB173F3}"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6547D6A4-BC6C-4BC4-A474-EDFE7BB43F95}"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02CC2669-8D77-4558-B6A2-E5D2453D111D}"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CB001D69-2225-40E3-8AD8-EDF8B53CE4DB}"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2F34E508-EAD1-4422-9A82-DA563C8B61CF}"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5592942F-A172-412E-9D25-1AB4128D9A8D}"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7D3B9B5A-4BDF-451A-ABB1-979C7762419A}"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EBC7A075-8859-4DF6-8A02-7CE750CA152C}"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E06749A0-6FDD-40DA-A11C-1CBF47AB5AFB}"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A4318011-FAD6-4D60-BAA3-DB7A0C44DA8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EE8598D4-975E-4BA9-88AE-4356068DE492}"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7FA8A0E5-497E-4EEC-8AC1-E78211732A8F}"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70D1DF84-0267-463B-AF48-8B2618A96190}"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F4F01742-DC61-4002-B853-3A73CFD353C7}"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1DEDBE86-7C79-49B2-BEA4-F0A569B3DF85}"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9CE2CF21-B69C-44FE-8833-9F9841704A29}"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61001365-9518-48FF-BA81-79598C3157B9}"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295E8CFD-904E-4F5D-B0E8-32FD6C7A57B5}"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6EA3F3B4-1F01-4D20-93D8-64D35AE092F8}"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26D4F3AE-84A9-4C2B-AA5B-F005C8296339}"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2A4A80A5-03B7-427F-9604-355B3CCB8C6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736DBBD9-B9F1-485D-A067-4DF8E09F15AB}"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9118B50F-516F-4E27-B4EB-1FFD7BFC99B0}"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20C10EA7-4163-4426-BCCD-731856CBAF5D}"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DB311570-EFDB-450C-9F94-5B6994AE3C06}"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4C2C5A85-96DA-44D1-9472-D7F041FD29F0}"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1150E4FD-AEF0-4831-97BC-06565CD1A19E}"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2AC51B39-09D9-4B8F-BF21-A37B7A45A845}"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402E5426-D0A4-4DCA-8BE7-FA96C179B2E7}"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A531CB3C-57DA-4CC3-941F-43D851726B22}"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0F2C2232-9D66-43DD-8CE5-58CE9F82665D}"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70C28143-A298-4DE2-889C-0BD7CA0366C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B972FBA5-B4BF-4F2B-A1A6-4F88DF54DC2A}"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B2BF9A17-1C7F-4E33-8B20-F3F410FDE93A}"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905083D4-5518-4090-8893-5A9ACFF271CE}"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4459F2A-2CD6-4517-8EDF-ECEFBAA457FF}"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668A56D1-59A0-4AC5-AE2D-0CA131F0C1BB}"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6E764C28-39A1-439E-8346-76B11D05274C}"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3A64D306-A587-44A4-86D3-6E51639A5AE8}"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656261CA-5FA7-43B0-8496-B4B984439279}"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1ADA03E7-1AC7-4BFA-B0ED-BF4DD3850B01}"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2ED52CFF-CFD1-42F5-82C3-16D35678E45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7B87A6EF-30CE-42DC-867A-7ADC9943BD94}"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6FCD82BB-1A90-424B-93A7-8D74C0F055E1}"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267A7008-6324-4E2A-A323-59EE03617574}"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E1A9F39F-6BB4-4527-BBEE-19CBE4EEE0C8}"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F0C28EA1-E5F0-44C5-9C6A-BD49EDE8F9E6}"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D2B507A1-6141-478F-9CAC-E194374AC5AA}"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DC3CE842-47A6-4CCD-9FD8-127E244DA26E}"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F390C722-F046-41C7-B46B-FFE3DAB97B47}"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2E50838F-4B87-4112-BFB0-E367867939F7}"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A9C04E57-2B02-4824-9B3D-AD326288BD9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9469F97E-1732-4DDF-9C7B-BBED85B2EA71}"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C816A58E-8A4A-4C76-94A6-0CDEB1CC38C8}"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A056D773-44F6-4CFF-A3B3-78F88DBF067B}"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2F51F4AF-B7F0-4C01-AD94-D74B01EEC31E}"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B89C432A-2F97-41EA-AFB5-D058FAC69DD6}"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2CBADFC0-BF1F-40E2-8F6A-15E41EBE468F}"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57AE2D66-6880-4615-BBBE-E06151C62640}"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60C0883D-062D-47EA-8C54-94A793BEE223}"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6DA9B234-199D-4387-B207-43405152C4F8}"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C643659A-A8BA-42CE-9C92-6A27039EAD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C7012344-3D07-4865-AB78-539DCD0DCCB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D1EB83D9-5FD2-43AA-A0CD-A70123561AD7}"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C6FCEA81-6CEE-401F-9885-FA0FA14FCD37}"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904F1ABA-1A6D-4780-B85B-C20745F1C5C3}"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66D4CEED-408A-403A-98F6-691B79274974}"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BCB96C02-F855-4791-A924-9599995F7BEC}"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EB93A645-CF4B-4A6D-A5AE-6C1EB359E501}"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F8B1BB0B-18C5-4877-9695-39E25758694B}"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CC2B86B7-3FE5-41A1-9EA6-25055D897479}"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442F2F37-0575-4C0D-A73A-2F3FF43AACCA}"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38B54919-14DF-453E-9929-6C81F413B8C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A8555EF3-3B92-439F-944D-1EA66B7BBCB1}"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D3AA3B1A-4F35-4A2F-9468-3EB7BD4532B7}"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7CA8BC83-2DB4-4CEE-BF97-06E556AEDF2B}"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4D8AF4C4-7984-4AAC-BC64-C0582AD66D7C}"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0A06F8F0-B0CD-4F18-9E48-97694D10214B}"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F3685857-2C7B-433A-B5F5-C888174F2ECB}"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D145E38E-9B27-48FC-9B4F-5F229D4B4433}"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608107B9-23E9-4C80-B3EE-6CF661FBBD3D}"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F3E70CF1-AAB8-4C6A-9DF7-3FF79AD80EFC}"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C6207357-71F2-49BE-9C09-89AE9FAC06B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FFC9BFDB-E44D-4B21-A30D-490889AA955C}"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4C00C906-2F0B-4A2B-B814-1BDD22F2C9B0}"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2CABB1BE-B971-42A1-A4D5-1586DA021C55}"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8EC88AAA-D9B6-47AD-B1B4-2557323F5F15}"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E6844C1C-0BCD-4AD8-AEF0-25A541F0FBBD}"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D308CDA8-14CD-4BED-BC15-21DE8A5726FD}"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BE22345D-81C7-45C0-ADDB-1E5ED55C5875}"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76D744B1-0651-40CE-AF2C-E955C3E191A3}"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00CA61F5-849F-4168-8CB1-BF05A495C388}"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77C1AA0F-5E0F-4C33-AA7E-2ECA6215E98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B50747FB-518D-43D5-96C3-648C5C3F7EF4}"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99C113CC-013F-4929-8CF8-C44CFBB811F9}"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779B5FEB-10DE-4B3B-BADF-2B17712E9C0B}"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D3F1A9C2-B548-44DF-8747-42A743C1C655}"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4114D9B5-32F1-4450-896F-CA1B2C2AA5FD}"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ACA69D94-CE38-4BE2-87C7-B0D26EA4AD89}"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608FD566-5BB7-4CF1-A242-E8FA3E5C158A}"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BA995D83-2900-4220-BF03-7D0836AE796B}"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40635690-3998-438D-9ACE-9550B847C8EA}"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59A387F7-CD34-4EB8-BD7C-CA1DE9E2359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6FAE0CE4-7904-4F1F-9627-56538626EAE4}"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DC2DFCA5-5953-434F-9A07-BCA572624F81}"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BF47E491-59E2-420E-8F9B-CA17951EA4D1}"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9A324F22-BEC5-42EE-91DC-D34ADD2C9B0A}"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ECBC4F2C-3386-4C71-AF2C-4E839305C50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53CF91-529B-45F8-9782-545BAC82D5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61C5B384-B331-49C4-B91B-6643FF56260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105C7EFA-7339-4019-A187-BDC6FAA727F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0872EE7-44EB-4C2C-AC9B-D2C4A4E30E9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E10C2EC6-1649-4FEF-B4C9-5144D077607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AF70B7C2-5D9C-479B-91CB-F56168B31B2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D8636A73-E100-4DE2-B0E1-48070B7BD89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0450E8E-70AA-4503-920E-82FF45BE6B5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D6B664E-A8F8-46FE-884A-FFA356EAC83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BBF4547-F890-433B-84D4-9189F2E2B4E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952CE761-5AD4-46D9-A8F8-4DFF171BDBD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9E22CCF3-205A-467D-AA77-0727A9948E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14D2F404-5546-49BC-9410-FFC5388DDDC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A5002A93-6EC0-4235-B99C-0C8C40C17E7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8803655-590F-4DDB-8017-F441D34325A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B8AE3692-5C05-4BB2-B081-F370B40D099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3AF49820-8DCB-4F1E-946C-7781F301BC7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60D507C6-C4B3-473D-A404-A79A980D3ED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98EE7E05-4289-4F1F-BA7D-33A75D57A10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81C7E960-B4D3-441C-A01A-F315042B1D6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8748A70-8824-4B0E-A4EF-CCD9F070505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55B660E-9191-4AB2-83AF-BBD9D11F37B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6FFE9747-AE63-4442-8D22-B36FF170DB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6A03EFFF-66D7-42A3-BF88-19DF3BBCAE3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A737DF15-12AB-437E-81BE-33BACDAD970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3CF49F4F-F53B-4A95-A851-848B76EE502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24443667-53E6-4453-9D09-0F6D681000E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518BF69C-332C-43ED-914E-AFCB1C8BBC4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11D97F4-5AFA-4706-A4C2-312238E50BA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C992CFC6-A9B0-4897-A123-46B8ED941F4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4FF297A9-4B66-4E50-A7AC-966F902DC07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3305DD30-CA70-4880-B717-45D90A570A5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42843A72-701D-4503-8A77-91CC320B5A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EA7878B-4CB8-46AB-8473-C0D382167D0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5C508028-3002-4C89-8977-20AAC500E73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7D5614AA-8546-4940-9CBF-9593597F265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7C942DD-18A1-41B5-A52D-AF805B37942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024D0D9-D424-47D7-B423-DEF079243AE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3DE127C0-EAF9-45E9-B591-99D27931F16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55100B21-9479-4F7D-8FC7-83B3153E037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7093A995-2A47-4CDF-87A5-ED2AE09F17D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1FF2FAC-8437-42A5-9508-A39DC7628E0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6CA11EA5-C135-41DE-809C-CFD95FC1058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CBFB7EB6-9890-4B88-A3A9-628022F68F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1B169-5827-43C1-87B7-DD7D5D2F68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2BB1-D633-44A4-880C-926242F9B4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5A810-7EBE-4B26-BAD6-401BFBB67B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4ED2F-02F2-40EB-ACB8-1CD734756A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53E36-533D-42F9-8F70-4712FD750A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15FD-6139-45AA-BFA0-019119A5A9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2483-D3AC-4D76-9325-F52B80EA2C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96D79-513C-4DB2-88DE-CE90BFBFC9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1EC9B-C0A6-434D-A06A-7A9C188D429A}"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17962-55FB-4E0F-9486-7BB792D68C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744AE-A95B-41BE-8EF7-05A78B385D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577C9-6934-4CCA-B14D-AB5BFAF49C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C838-1FFF-4C7D-8E12-E45BFEB316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DB76E-0C41-40CF-82BD-35338F25CD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AA528-F2CC-4870-AEFD-534E546083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17DDD-7D82-4E14-AEA4-A823EE8437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7B3B2-A5D0-47BE-ADD7-EBCCB82BA8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FCD8E-4FE6-488D-9E9F-2D7DC5C03F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E8EE0-3F6F-43D1-8A0E-ADDA2D2C76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C0CFF-62F9-462E-A1BA-517297B847DD}"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E3894-4857-41E0-B172-91E07D4420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C21E-D12F-4914-BF51-7B74E0CEA5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86C8-ABAE-4D18-9998-40F729617C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989DA-00AC-41BD-AD4B-E4E7A6BDC5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B0875-6A04-479C-B268-B01EC4F1AE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8A813-3837-4853-BC43-7EF5A72FE8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730C6-8A59-4C50-A50D-A6D95CE35A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F9B96-437C-475E-BCB2-3B6D3E3FEB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1B55C-449A-406A-ABE6-8DF47FB833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F0A0D-F7B8-4E57-9E32-29AF8B4561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3BC08-F019-486A-959C-2B290595A9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ABDE1-DBC5-45BA-8B41-6533757D87CF}"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A4ACA-91A9-4EA3-AEAA-E7F5D99EBE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56E8B-FD9D-4FE5-B98D-2AE1A893B0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6676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8960" y="6480"/>
            <a:ext cx="5086080" cy="63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71600" y="1981080"/>
            <a:ext cx="6438960" cy="3305160"/>
          </a:xfrm>
          <a:prstGeom prst="rect">
            <a:avLst/>
          </a:prstGeom>
          <a:ln w="0">
            <a:noFill/>
          </a:ln>
        </p:spPr>
      </p:pic>
      <p:pic>
        <p:nvPicPr>
          <p:cNvPr id="1620" name="Picture 3" descr=""/>
          <p:cNvPicPr/>
          <p:nvPr/>
        </p:nvPicPr>
        <p:blipFill>
          <a:blip r:embed="rId2"/>
          <a:stretch/>
        </p:blipFill>
        <p:spPr>
          <a:xfrm>
            <a:off x="1333440" y="157176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B4425-39DC-4426-92BD-0E5BC3D5181C}"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a:t>
            </a:r>
            <a:r>
              <a:rPr b="0" lang="en-US" sz="1600" spc="-1" strike="noStrike">
                <a:solidFill>
                  <a:srgbClr val="262626"/>
                </a:solidFill>
                <a:latin typeface="Calibri"/>
              </a:rPr>
              <a:t>1/8</a:t>
            </a:r>
            <a:r>
              <a:rPr b="0" lang="en-US" sz="2000" spc="-1" strike="noStrike">
                <a:solidFill>
                  <a:srgbClr val="262626"/>
                </a:solidFill>
                <a:latin typeface="Calibri"/>
              </a:rPr>
              <a:t>).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D542A-7430-48D6-BDC2-5AC9C0E5A1B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C6630-4CF9-4A45-AFC8-4DB73E0174A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A1BBD-8E8E-4D26-AF84-53F94511064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90720"/>
            <a:ext cx="8167680" cy="46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6480"/>
            <a:ext cx="6396120" cy="65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1:08Z</dcterms:modified>
  <cp:revision>36</cp:revision>
  <dc:subject/>
  <dc:title>Deep Engagement with the Shifts of the Common Core State Standards  Mathematics</dc:title>
</cp:coreProperties>
</file>